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59C-5FAD-470D-9AD2-22683B2A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DF4-64F1-4825-B4F6-AF9EDFCB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051-5D0E-40F4-8FA0-FBB6A64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9AA-D555-4B1A-BF1E-F636F6FD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ADF-31EF-4E37-92EB-7AD0A0E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250-1993-465F-8B66-957D6C1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EA6-4667-4113-A568-04AAF32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65B-F6B8-4462-B320-A0ED86A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AA0-A669-4806-9E76-2E96B9D9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BEE-BA2E-4A18-A5C6-E52C3E2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DF6-6245-4001-B2CC-05157B1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C5C-15FE-4F21-979A-2228581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1E2D-8E53-46E6-9E96-2AE7EC7B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4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Authentication Applicat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2485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C0E-C5B7-4DFE-890C-C6A34238EF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2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1447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Authentication Service Exhange: To obtain Ticket-Granting Ti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         IDc || IDtgs ||T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</a:t>
            </a:r>
            <a:r>
              <a:rPr b="0" lang="sv-SE" sz="14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Lifetim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8120"/>
            <a:ext cx="8534160" cy="1710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Comic Sans MS"/>
              </a:rPr>
              <a:t>Ticket-Granting Service Echange: To obtain Service-Granting Ti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3) 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TGS:             IDv ||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tgs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Authenticato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4)    TG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  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¨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v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534160" cy="122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Client/Server Authentication Exhange: To Obtai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5)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V:                 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Authenticator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6)  V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 EKc,v[TS5 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120-F674-45E0-9ACA-D95F35BCD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verview of 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095480"/>
            <a:ext cx="7543800" cy="54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DE1-0209-46DF-8669-958A4C421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quest for Service in Another Real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057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1371600"/>
          <a:ext cx="4202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71600"/>
                    <a:ext cx="4202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535-E24E-45FC-8548-FAC0CB9C1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fference Between Version 4 and 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system dependence (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.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protocol depen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ssage byte ord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cket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forwar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realm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092-AA5D-4E45-A672-46A91A471A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rberos Encryption Technique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27400" y="914400"/>
          <a:ext cx="4714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914400"/>
                    <a:ext cx="4714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C1D-B02C-4FC1-BDE6-E1BFBCD0B4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CBC Mo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4D3-2A63-4669-B043-67C598E8C3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erberos - in practise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rrently have two Kerberos version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 : restricted to a single realm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 : allows inter-realm authentication, in beta test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v5 is an Internet standar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ied in RFC1510, and used by many utiliti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 use Kerbero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a KDC on your network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Kerberised applications running on all participating system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jor problem - US export restric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cannot be directly distributed outside the US in source format (&amp; binary versions must obscure crypto routine entry points and have no encryption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se crypto libraries must be reimplemented locall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36B-21AD-4290-80FD-454EFC8077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set of servers that maintains a database about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certificate contains the public key of a user and is signed with the private key of a 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used in S/MIME, IP Security, SSL/TLS and S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SA is recommended to 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042-AE53-4433-B18A-742B5B71AC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Forma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DD5-CFB3-48CC-8DAD-5BC40A549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858000" cy="447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838080"/>
            <a:ext cx="7315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1430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ical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gital Signatur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BF2-3F1C-4D4A-AC92-3994B778B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676-868E-4C17-889B-0EA185AF72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btaining a User’s Certificat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of certificates generated by C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user with access to the public key of the CA can recover the user public key that was cert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art other than the CA can modify the certificate without this being detec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F02-CE59-4FBA-942E-E12D07E99A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CA Hierarc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65760" cy="55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FDD-6D42-4938-8AB0-9F7A07931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cation of Certifica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ons for revoc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s secret key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 is no longer certified by this 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’s certificate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5AB-EF2E-42E6-9ED5-3ED922692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thentication Procedur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143000"/>
          <a:ext cx="369396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143000"/>
                    <a:ext cx="369396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0AD-3C35-46F0-A2CE-DEB484936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whatis.com (search for kerber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yant, W. Designing an Authentication System: A Dialogue in Four Scene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dialogue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hl, J.; Neuman, B. “The Evolotion of the Kerberos Authentication Servic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papers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isi.edu/gost/info/kerberos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6D1-378D-4EFA-9474-1925EBEEC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concerns ar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melin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vide confidentiality must encrypt identification and session key inf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equires the use of previously shared private or public key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imeliness to preven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y attack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d by using sequence numbers or timestamps or challenge/respon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F98-6DE8-43DD-9AB8-C8F443553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 Greek mythology, a many headed dog, the guardian of the entrance of H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krblogo_big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530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D90-8A34-473C-8D7C-35DFC85066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sh to access services on ser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threats exi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pretend to be another us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lter the network address of a workst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eavesdrop on exchanges and use a replay at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EC7-7661-415C-9F39-38D007DBC7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a centralized authentication server to authenticate users to servers and servers to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s on conventional encryption, making no use of public-key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versions: version 4 and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4 makes use of 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51-CFCA-4B6D-B171-673613074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 Version 4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= authentication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 =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identifier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identifier of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password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network address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secret encryption key shared by AS an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S = timest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|| = concate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8C0-D7EF-40E4-BC4F-0D3CB7772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 Simple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V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 = E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622-B089-49A8-B137-EB7589309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time associated with the ticket-granting ti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shor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eatedly asked for pass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long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eater opportunity to re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reat is that an opponent will steal the ticket and u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fore it exp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62E-B1C1-44CC-9AB1-12F149B1BE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9:51:07Z</dcterms:created>
  <dc:creator>Henric Johnson</dc:creator>
  <dc:description/>
  <dc:language>en-US</dc:language>
  <cp:lastModifiedBy>Henric Johnson</cp:lastModifiedBy>
  <dcterms:modified xsi:type="dcterms:W3CDTF">2001-08-23T09:48:51Z</dcterms:modified>
  <cp:revision>20</cp:revision>
  <dc:subject/>
  <dc:title>PowerPoint Presentation</dc:title>
</cp:coreProperties>
</file>