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E51-4AE8-4CAB-AB12-52F4AD1D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AC2-C614-4112-A515-01A0EAFD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E05-571E-413A-ADFD-4903F0AF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2C5-0154-470E-B088-E1A56CD8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6FE-286E-423A-BE6A-554F7AF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0E5-0571-4C0A-A388-3D7DFC5F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441-6895-4037-AD54-153AC3F4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CE8-8BD0-4114-B23B-C6E48CF4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AB1-F5C7-496D-A21C-951A5AFC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9A5-1A7F-46D4-AF79-D784F23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A9E-78C6-466A-9562-9AB32B8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7B3-0773-47DC-9A1E-781A365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DBB-7DB2-424F-B9FC-40664E47F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6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IP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624852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95-DEBF-4495-AF66-8E113D1976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docu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1: An overview of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2: Description of a packet en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6: Description of a packet em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8: Specification of key managament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200-AEF3-450D-B9FC-B5489BCBF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Documen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09680" y="1447920"/>
          <a:ext cx="45594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5594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47B-8B85-46A1-A170-CBA48A63B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nectionless integ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origin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jection of replayed pack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(encryp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imited traffic flow confidential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60F-721E-4BD9-9303-1216332DE7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Associations (SA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 one way relationsship between a sender and a recei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dentified by three 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Destination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rotocol Ident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AA7-0E96-4B0F-9877-94CEBCB94E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3520" y="609480"/>
          <a:ext cx="8229600" cy="5600520"/>
        </p:xfrm>
        <a:graphic>
          <a:graphicData uri="http://schemas.openxmlformats.org/drawingml/2006/table">
            <a:tbl>
              <a:tblPr/>
              <a:tblGrid>
                <a:gridCol w="2743200"/>
                <a:gridCol w="2895840"/>
                <a:gridCol w="2590560"/>
              </a:tblGrid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rt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IP payload and selected portions of IP header and IPv6 extension h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entire inner IP packet plus selected portions of outer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 with authent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. Authenticates IP payload but no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. Authenticates inner IP pac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9FA-15DB-4B8B-A74E-FDEC14112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efore applying AH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514600"/>
          <a:ext cx="83059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8305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2F5-D7BC-4117-AFB6-25F1F9DE79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2286000"/>
          <a:ext cx="847872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47872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439-60DC-4901-8096-94B5130585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unnel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2065320"/>
          <a:ext cx="822960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5320"/>
                    <a:ext cx="82296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8D5-8261-46D0-8620-E7E5A1E89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s support for data integrity and authentication (MAC code) of IP packe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Guards against replay att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2819520"/>
          <a:ext cx="60958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19520"/>
                    <a:ext cx="60958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D4F-B318-4467-AB7F-3DB4673BC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d-to-end versus End-to-Intermediate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981080"/>
          <a:ext cx="883908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3908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802-8C86-4D7F-B3BD-E658F88F15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ternetworking and Internet Protocols (Appendix 6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F27-43D4-453C-908E-DBC46041A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SP provides confidentiality ser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2133720"/>
          <a:ext cx="5843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843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04A-8F97-4E31-9E62-ABB5AFB46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and Authentication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MD5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SHA-1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33E-799A-41E0-B720-A2B84538C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905120"/>
          <a:ext cx="830592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3059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1D7-61AE-4CA2-9E4E-DE2427DED4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2149560"/>
          <a:ext cx="8229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49560"/>
                    <a:ext cx="8229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A8A-7B05-43FA-BB97-D08B4FF0C6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24160" y="1981080"/>
          <a:ext cx="629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981080"/>
                    <a:ext cx="629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4B5-66A5-4CCE-B3C6-8EA2791E3E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74680" y="1981080"/>
          <a:ext cx="6792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981080"/>
                    <a:ext cx="6792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8B4-4D5A-4FE8-8A6B-F7D7E0FE57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76520" y="2057400"/>
          <a:ext cx="575784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5784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D9A-881E-4310-BB61-ABC7D390BD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7400" y="1905120"/>
          <a:ext cx="53006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3006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B75-B804-420F-8FB0-AE4DB1ACE2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omated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Oakley Key Determin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nternet Security Association and Key Management Protocol (ISAKM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BE5-B014-4171-A5EE-BD011DF681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akle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uthentication metho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ymmetr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3C7-D2A2-413F-95E9-7E013681D1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CP/IP Examp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371600"/>
          <a:ext cx="737892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3789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3AD-8547-45ED-AA27-875DDC7C2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SAK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1523880"/>
          <a:ext cx="61736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1736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7FC-4C1B-4894-952F-2886BAF9CD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Internetworking with TCP/IP, Volume I: Principles, Protocols and Architecture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 Hall, 19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even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TCP/IP Illustrated, Volume 1: The Protocol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BA3-F8C4-4F1D-BDFE-676D9CEC68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4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2286000"/>
          <a:ext cx="882504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2504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2E4-64FD-4F58-8349-2458064DD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6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736308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36308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2FF-0535-43E2-AD50-5689A0789C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is not a single protocol. Instead, IPSec provides a set of security algorithms plus a general framework that allows a pair of communicating entities to use whichever algorithms provide security appropriate for the commun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355-7246-4E19-8A5C-694C0E973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pplications of IPS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branch office connectivity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remote access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stablsihing extranet and intranet connectivity with part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hancing electronic commerce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B43-301B-468F-97EE-187594563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Scenario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662940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62940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F58-17F1-4EB2-8DB1-459E275BD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Benefits of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ransparent to applications (below transport layer (TCP, UD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 security for individual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Sec can assur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er or neighbor advertisement comes from an authorize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edirect message comes from the router to which the initial packet wa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ing update is not for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513-379E-49A1-B4D8-66164D6ABD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8:22:57Z</dcterms:created>
  <dc:creator>Henric Johnson</dc:creator>
  <dc:description/>
  <dc:language>en-US</dc:language>
  <cp:lastModifiedBy>Henric Johnson</cp:lastModifiedBy>
  <dcterms:modified xsi:type="dcterms:W3CDTF">2001-08-23T09:50:36Z</dcterms:modified>
  <cp:revision>14</cp:revision>
  <dc:subject/>
  <dc:title>Chapter 6</dc:title>
</cp:coreProperties>
</file>