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94ED-8654-4083-9C20-75A21DDAE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1E44-8C60-423F-AE83-FA0BF64C7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FE76-2476-4B27-87F2-E70BF919D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FF2B-3842-400B-B9ED-202E52EA3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004C-C849-4B57-A8F9-6353FCCFD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6AAF-F6E0-42AF-999B-0BB374603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3DEC-47AF-4EDE-B087-DB6E960A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5B78-8E64-47A3-96A7-F59369448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BDB1-C520-4F74-B709-E5FAE096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9369-9792-473F-8BEA-C4ABC611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2E68-4826-454C-A80B-60A25F4F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9ED4-0389-4602-A9F4-AD2723D8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DEA16-D765-4929-BE1B-137166619B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7200" spc="-1" strike="noStrike">
                <a:solidFill>
                  <a:srgbClr val="000000"/>
                </a:solidFill>
                <a:latin typeface="Comic Sans MS"/>
              </a:rPr>
              <a:t>Chapter 1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047760"/>
            <a:ext cx="64008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800" spc="-1" strike="noStrike">
                <a:solidFill>
                  <a:srgbClr val="000000"/>
                </a:solidFill>
                <a:latin typeface="Comic Sans MS"/>
              </a:rPr>
              <a:t>Firewall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567400"/>
            <a:ext cx="9144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bth" descr=""/>
          <p:cNvPicPr/>
          <p:nvPr/>
        </p:nvPicPr>
        <p:blipFill>
          <a:blip r:embed="rId1"/>
          <a:stretch/>
        </p:blipFill>
        <p:spPr>
          <a:xfrm>
            <a:off x="7772400" y="556272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14400" y="4876920"/>
            <a:ext cx="75438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Blekinge Institute of Technology, Swe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http://www.its.bth.se/staff/hjo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+46-708-2503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62520" y="6248520"/>
            <a:ext cx="12952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8455-784A-4E91-B147-FEFED4895FF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ypes of Firewal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ree common types of Firewal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cket-filtering rou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lication-level gate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ircuit-level gate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astion ho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8E65-1D2D-47FB-A55E-4E98C309DB5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ypes of Firewal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cket-filtering Rou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447920" y="2666880"/>
          <a:ext cx="6440400" cy="210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666880"/>
                    <a:ext cx="6440400" cy="210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114C-7A5B-476F-A48A-DC23F67FE89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ypes of Firewal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cket-filtering Rou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lies a set of rules to each incoming IP packet and then forwards or discards the pac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lter packets going in both dir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acket filter is typically set up as a list of rules based on matches to fields in the IP or TCP he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wo default policies (discard or forwar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B016-E1A4-44FA-8B87-ABE8550F967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ypes of Firewal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vantag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i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nsparency to 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gh sp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advantag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fficulty of setting up packet filter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ck of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1CF0-4DAE-4610-A731-BC8023DFD7A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ypes of Firewal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ssible attacks and appropriate countermeas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P address spoof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urce routing att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ny fragment att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EB0D-8B67-41DB-8A97-6221BF5954D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ypes of Firewal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pplication-level Gate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447920" y="2743200"/>
          <a:ext cx="6276960" cy="235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743200"/>
                    <a:ext cx="6276960" cy="23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70EE-3E39-4EE7-A7DE-8991A84C2BA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ypes of Firewal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pplication-level Gate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so called proxy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ts as a relay of application-level traff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9599-CCA4-4182-AC8A-8DBD8DC1557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ypes of Firewal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vantag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gher security than packet fil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ly need to scrutinize a few allowable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sy to log and audit all incoming traff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advantag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itional processing overhead on each connection (gateway as splice poi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819D-7DD1-4AFC-BDD5-FC2BD1991D1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ypes of Firewal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ircuit-level Gate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447920" y="2666880"/>
          <a:ext cx="633564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666880"/>
                    <a:ext cx="633564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E043-57EC-4C4A-A996-EE23A3B1280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ypes of Firewal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ircuit-level Gate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nd-alone system 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ecialized function performed by an Application-level Gate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ts up two TCP conn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gateway typically relays TCP segments from one connection to the other without examining the cont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6D97-0F97-447D-95FC-37C2B18A867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Firewall Design Prin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rewall Character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ypes of Firew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rewall Configu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Trusted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Data Access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The Concept of Trusted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Trojan Horse Def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AF25-FCB0-47F9-9F1E-0B0B1BFD82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ypes of Firewal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ircuit-level Gate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security function consists of determining which connections will be allow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ypically use is a situation in which the system administrator trusts the internal 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example is the SOCKS pack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4370-B8AE-427B-BE48-CAACAFEC1C3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ypes of Firewal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astion H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system identified by the firewall administrator as a critical strong point in the network´s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bastion host serves as a platform for an application-level or circuit-level gate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8A1D-0F13-47DB-88B0-D27E2E9EAD6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Firewall Configuratio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addition to the use of simple configuration of a single system (single packet filtering router or single gateway), more complex configurations are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ree common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305D-0004-4562-AA28-F7EB7F94E47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Firewall Configuratio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reened host firewall system (single-homed bastion ho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219320" y="3276720"/>
          <a:ext cx="7089480" cy="25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276720"/>
                    <a:ext cx="7089480" cy="25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C60E-3915-4A83-A2C3-BFC20C1655D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Firewall Configuratio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reened host firewall, single-homed bastion configu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rewall consists of two syste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acket-filtering rou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bastion h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02F1-B544-45F8-B410-D18664DB533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Firewall Configuratio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figuration for the packet-filtering rout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ly packets from and to the bastion host are allowed to pass through the rou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bastion host performs authentication and proxy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5E70-A177-49F1-9A15-3E1B1A7DED5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Firewall Configuratio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eater security than single configurations because of two reas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configuration implements both packet-level and application-level filtering (allowing for flexibility in defining security polic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intruder must generally penetrate two separate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F6D9-8470-4543-A73B-539F5314FD0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Firewall Configuratio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configuration also affords flexibility in providing direct Internet access (public information server, e.g. Web serv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3E89-511A-47F7-9386-A135B3DE24F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Firewall Configuratio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reened host firewall system (dual-homed bastion ho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143000" y="3276720"/>
          <a:ext cx="6789600" cy="235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276720"/>
                    <a:ext cx="6789600" cy="23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B8B1-96BD-47A0-ADB7-D0E55C53599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Firewall Configuratio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reened host firewall, dual-homed bastion configu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acket-filtering router is not completely compromi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ffic between the Internet and other hosts on the private network has to flow through the bastion h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BA3D-7369-4848-B471-03621D3C07B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Firewal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ffective means of protection a local system or network of systems from network-based security threats while affording access to the outside world via WAN`s or the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5501-5359-404A-A5CD-EA8F8D0861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Firewall Configuratio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reened-subnet firewall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143000" y="2819520"/>
          <a:ext cx="6967440" cy="236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819520"/>
                    <a:ext cx="6967440" cy="23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AAC8-F775-431D-AAC3-4BF6344D58C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Firewall Configuratio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reened subnet firewall configu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st secure configuration of the th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wo packet-filtering routers are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reation of an isolated sub-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C39B-3775-421F-82C0-DBCBAD6BFD3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Firewall Configuratio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vantag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ree levels of defense to thwart intru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outside router advertises only the existence of the screened subnet to the Internet (internal network is invisible to the Intern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3D62-ED7D-447E-8258-8E45B25822A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Firewall Configuratio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vantag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inside router advertises only the existence of the screened subnet to the internal network (the systems on the inside network cannot construct direct routes to the Intern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36DF-24E7-49E9-9DAB-3A40E8FEA1F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rusted Syste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e way to enhance the ability of a system to defend against intruders and malicious programs is to implement trusted system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3EE3-F811-4533-BF02-331E118BFEA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Data Access Contro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rough the user access control procedure (log on), a user can be identified to th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sociated with each user, there can be a profile that specifies permissible operations and file acc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peration system can enforce rules based on the user pro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8F35-CB47-4FF9-9E27-874ADB223AD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Data Access Contro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neral models of access contro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cess matr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cess control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pability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A113-8227-4DC2-9849-3F29414296F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Data Access Contro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cess Matr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143000" y="2743200"/>
          <a:ext cx="6370560" cy="22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743200"/>
                    <a:ext cx="6370560" cy="22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A03C-6FFB-435C-AD5B-CB4C068774E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Data Access Contro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cess Matrix: Basic elements of the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bject: An entity capable of accessing objects, the concept of subject equates with that of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ject: Anything to which access is controlled (e.g. files, progra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cess right: The way in which an object is accessed by a subject (e.g. read, write, execu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94F9-D177-4B9B-A18D-141999ECEBE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Data Access Contro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cess Control List: Decomposition of the matrix by colum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590920" y="3276720"/>
          <a:ext cx="4114800" cy="23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3276720"/>
                    <a:ext cx="4114800" cy="23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B126-86B8-4FAC-81E2-D1DC0652095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Firewall Design</a:t>
            </a:r>
            <a:br>
              <a:rPr sz="4400"/>
            </a:b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formation systems undergo a steady evolution (from small LAN`s to Internet connectivit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rong security features for all workstations and servers not establish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88CA-0842-4498-9443-F193AC10079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Data Access Contro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cess Control 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access control list lists users and their permitted access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list may contain a default or public en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31A1-DAA3-48D6-BF76-BA767D1A662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Data Access Contro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pability list: Decomposition of the matrix by r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743200" y="3429000"/>
          <a:ext cx="3809880" cy="19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429000"/>
                    <a:ext cx="3809880" cy="19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C543-B7E8-495E-A513-ED228FB9E66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Data Access Contro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pability 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capability ticket specifies authorized objects and operations for a u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ch user have a number of tic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1666-46AD-4D1A-920D-CED57C8E1CC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he Concept of</a:t>
            </a:r>
            <a:br>
              <a:rPr sz="4400"/>
            </a:b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rusted Syste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usted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tection of data and resources on the basis of levels of security (e.g. milita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rs can be granted clearances to access certain categories of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773A-E27D-4976-BBCA-B21B2AA5FDB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he Concept of</a:t>
            </a:r>
            <a:br>
              <a:rPr sz="4400"/>
            </a:b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rusted Syste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level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finition of multiple categories or levels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multilevel secure system must enfor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read up: A subject can only read an object of less or equal security level (Simple Security Proper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write down: A subject can only write into an object of greater or equal security level (*-Proper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5DD2-3049-4217-8E50-21717FA6C02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he Concept of</a:t>
            </a:r>
            <a:br>
              <a:rPr sz="4400"/>
            </a:b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rusted Syste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ference Monitor Concept: Multilevel security for a data processing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971800" y="3581280"/>
          <a:ext cx="313704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3581280"/>
                    <a:ext cx="313704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C92A-D770-4E72-8767-08AABE8A695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1523880" y="1447920"/>
          <a:ext cx="6096240" cy="473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447920"/>
                    <a:ext cx="6096240" cy="47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he Concept of</a:t>
            </a:r>
            <a:br>
              <a:rPr sz="4400"/>
            </a:b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rusted Syste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3C6D-4567-4205-AC6D-B0636798BD1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he Concept of</a:t>
            </a:r>
            <a:br>
              <a:rPr sz="4400"/>
            </a:b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rusted Syste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ference Mon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rolling element in the hardware and operating system of a computer that regulates the access of subjects to objects on basis of security para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monitor has access to a file (security kernel databa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monitor enforces the security rules (no read up, no write dow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98C8-C5A1-492D-8AFF-69A87582763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he Concept of</a:t>
            </a:r>
            <a:br>
              <a:rPr sz="4400"/>
            </a:b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rusted Syste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perties of the Reference Mon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plete mediation: Security rules are enforced on every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olation: The reference monitor and database are protected from unauthorized mod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rifiability: The reference monitor’s correctness must be provable (mathematical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83CD-6189-4525-A6D5-76391DF0EC03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he Concept of</a:t>
            </a:r>
            <a:br>
              <a:rPr sz="4400"/>
            </a:b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rusted Syste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system that can provide such verifications (properties) is referred to as a trusted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2732-CB0A-4385-B15B-922BD38418F8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Firewall Design</a:t>
            </a:r>
            <a:br>
              <a:rPr sz="4400"/>
            </a:b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irewall is inserted between the premises network and the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ablish a controlled l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tect the premises network from Internet-based att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vide a single choke 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FF0A-E272-4614-B5F1-66FC94F4ACB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rojan Horse Defens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ure, trusted operating systems are one way to secure against Trojan Horse atta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0849-80E1-4C60-A503-086BAB3FDFC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rojan Horse Defens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28600" y="2057400"/>
          <a:ext cx="4257720" cy="29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057400"/>
                    <a:ext cx="4257720" cy="29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4343400" y="1996920"/>
          <a:ext cx="4286160" cy="296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1996920"/>
                    <a:ext cx="4286160" cy="29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A2AC-AD0F-453E-AE8F-2E5D8A1D0D6E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rojan Horse Defens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4648320" y="1960560"/>
          <a:ext cx="4495680" cy="28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60560"/>
                    <a:ext cx="449568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0" y="1905120"/>
          <a:ext cx="4543560" cy="293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905120"/>
                    <a:ext cx="4543560" cy="29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2FF4-3C31-4ACF-8D59-4EC1D7C50972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Recommended Rea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Chapman, D., and Zwicky, E. Building Internet Firewalls. O’Reilly, 199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Cheswick, W., and Bellovin, S. Firewalls and Internet Security: Repelling the Wily Hacker. Addison-Wesley,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Gasser, M. Building a Secure Computer System. Reinhold, 198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fleeger, C. Security in Computing. Prentice Hall,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E359-A844-47EE-B411-AE06BA871B34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Firewall Characteristic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sign go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 traffic from inside to outside must pass through the firewall (physically blocking all access to the local network except via the firewal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ly authorized traffic (defined by the local security police) will be allowed to p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F831-5E1A-47F3-90DE-5FA128E5FE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Firewall Characteristic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sign go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firewall itself is immune to penetration (use of trusted system with a secure operating syste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D3D2-9877-4161-8E5A-11A0CEF9EC7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Firewall Characteristic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 general techniqu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rvice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termines the types of Internet services that can be accessed, inbound or outb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rection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termines the direction in which particular service requests are allowed to f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96ED-9D18-4A65-B003-AEC7E177447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Firewall Characteristic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r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rols access to a service according to which user is attempting to access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havior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rols how particular services are used (e.g. filter e-mai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ACCD-7C35-4080-A9BB-D12EB24AC51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2T12:49:13Z</dcterms:created>
  <dc:creator>Holger Brachmann</dc:creator>
  <dc:description/>
  <dc:language>en-US</dc:language>
  <cp:lastModifiedBy>Henric Johnson</cp:lastModifiedBy>
  <dcterms:modified xsi:type="dcterms:W3CDTF">2001-08-23T09:53:02Z</dcterms:modified>
  <cp:revision>44</cp:revision>
  <dc:subject/>
  <dc:title>Chapter 2</dc:title>
</cp:coreProperties>
</file>