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77A-A40E-4706-A639-AEA3A207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0BF-71B8-4419-854B-EB9E8104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289-4818-4140-892C-CEEDCCAF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0F7-4A18-4009-A912-BBD06762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F53-F030-436D-B81C-CFA64433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7CC-1B22-40D2-A022-92AE8DF2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227-717B-4DC4-B8D9-D616311A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3B2-20F2-42B8-A8A5-934D95C9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84A-A7AE-4E2F-98EE-13D2277B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DCD-DE62-4F7A-A77B-0C5627ED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45A-D9FC-4D50-ACAA-DD4858A4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933-D635-494C-A4F9-E54A34B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687B-9AF7-4F32-8028-1198C410A05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7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omic Sans MS"/>
              </a:rPr>
              <a:t>WEB Securit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724280"/>
            <a:ext cx="85345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62485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273-0BA6-4870-9B85-B6E0F604E4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Handshake Protocol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most complex part of SS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llows the server and client to authenticate each 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Negotiate encryption, MAC algorithm and cryptographic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Used before any application data are transmitt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52F-10C3-4957-A321-47EC6E7748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Handshake Protocol Ac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743200" y="1143000"/>
          <a:ext cx="44244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143000"/>
                    <a:ext cx="442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523-DB33-478A-BB9D-F0EB695827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ansport Layer Securit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e same record format as the SSL record form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efined in RFC 224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Similar to SSLv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ifferences in th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version numb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message authentication 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pseudorandom fun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alert c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ipher suit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lient certificate typ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ertificate_verify and finished mess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ryptographic comput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472-AC95-434D-9369-5331486C97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e Electronic Transa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n open encryption and security specific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rotect credit card transaction on the </a:t>
            </a:r>
            <a:r>
              <a:rPr b="0" sz="2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ompanies involv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sterCard, Visa, IBM, Microsoft, Netscape, RSA, Terisa and Verisig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Not a payment sys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t of security protocols and forma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17F-27E1-4AD0-BBA3-A6BD6292F8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T Servic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rovides a secure communication channel in a transa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rovides tust by the use of X.509v3 digital certificat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nsures privac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2BD-7BDF-4DCE-AD15-DD5668180B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T Overview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Key Features of SE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fidentiality of 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ntegrity of 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ardholder account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Merchant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EEE-00B2-412F-B1BB-7594349110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T Participant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1600200"/>
          <a:ext cx="73911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497-1393-42F6-845E-7DDA764729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quence of events for transa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customer opens an accou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customer receives a certific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erchants have their own certificat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customer places an ord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is verifi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order and payment are s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request payment author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confirm the ord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provides the goods or servi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requests pay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B11-1FEE-4659-AAAA-F9605D575E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ual Signa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38472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87" name=""/>
          <p:cNvGraphicFramePr/>
          <p:nvPr/>
        </p:nvGraphicFramePr>
        <p:xfrm>
          <a:off x="1219320" y="2438280"/>
          <a:ext cx="6858000" cy="38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438280"/>
                    <a:ext cx="6858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4FE-4230-4D40-A5A5-CCBCCD173F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ayment process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ardholder sends Purchase Requ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52480" y="1371600"/>
          <a:ext cx="57009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57009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B35-1AB0-4449-B2F5-8111CC379B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Web Security Consid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ecure Socket Layer (SSL) and Transport Layer Security (TL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ecure Electronic Transaction (SE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21C-EA5D-454B-9285-C4D861ACD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ayment process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62320" y="1219320"/>
          <a:ext cx="473220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19320"/>
                    <a:ext cx="47322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143000" y="57913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erchant Verifies Customer Purchas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E4A-241E-4B8F-867C-AB253B007A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ayment process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ayment Authoriz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uthorization Requ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uthorization Respo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ayment Captur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apture Requ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apture Respo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DA3-EAC5-45C0-B2C2-F4FA062BD7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rew, G.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Using SET for Secure Electronic Commerce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. Prentice Hall, 19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Garfinkel, S., and Spafford, G. Web Security &amp; Commerce. O’Reilly and Associates, 199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sterCard SET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Visa Electronic Commerc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TCo (documents and glossary of term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47C-91BE-41B2-A1FA-43E96ACF39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Web Security Consider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WEB is very visi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mplex software hide many security flaw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Web servers are easy to configure and man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Users are not aware of the ris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7E2-DA31-4FA9-B9B2-55A40A544B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ity facilities in the TCP/IP protocol stack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666880"/>
          <a:ext cx="883908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883908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B18-F2A2-480B-BA47-918AF9038F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and TL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SL was originated by Netsca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LS working group was formed within IET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First version of TLS can be viewed as an SSLv3.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C2D-B9A7-494B-9975-5503F8D5C4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Architec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828800"/>
          <a:ext cx="6088320" cy="46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883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F24-7579-4887-9FE6-56969BAAA1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Record Protocol Oper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14400" y="1752480"/>
          <a:ext cx="739152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39152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AC5-FA55-43D2-A372-E9CBA328D9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Record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1752480"/>
          <a:ext cx="525456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525456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E00-83AC-4546-B60C-49BF709362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Record Protocol Payload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2209680"/>
          <a:ext cx="82296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2296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75D-35A9-42A4-B282-CFFC5F417C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5:17:12Z</dcterms:created>
  <dc:creator>Henric Johnson</dc:creator>
  <dc:description/>
  <dc:language>en-US</dc:language>
  <cp:lastModifiedBy>Henric Johnson</cp:lastModifiedBy>
  <dcterms:modified xsi:type="dcterms:W3CDTF">2001-08-23T09:51:04Z</dcterms:modified>
  <cp:revision>14</cp:revision>
  <dc:subject/>
  <dc:title>Chapter 7</dc:title>
</cp:coreProperties>
</file>