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94A-164A-4D92-87CF-2B114B76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16B-CB81-472D-BA94-E6A1FECF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505-4F05-433B-8EC6-1C484EAE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13F-3D8F-4959-90FA-E72D6366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AAB-F472-400E-B4FE-060BE68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785-2464-4190-BD6D-40D4F3A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7C1-F538-4C5E-9533-F6A406B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75F-C6A6-4BA9-B744-B8BA69AF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692-620D-473C-97B8-9E73A976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099-CE33-48F9-923F-3BB2CE8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19B-3D09-4FE5-952A-02DED55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FC5-1E78-43BE-8A36-C7DAC23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7699-4088-497D-98F7-8F597E54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5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Electronic mail security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62485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4FF-A29B-4538-B40B-9FE2A440E7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mary of PGP Services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295280"/>
          <a:ext cx="708804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708804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886200" y="6324480"/>
            <a:ext cx="1371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116-63EE-425A-85DD-E726A901E8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4920" y="90360"/>
          <a:ext cx="8686800" cy="61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0360"/>
                    <a:ext cx="86868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086-4B4B-444F-9FCE-0037049BF6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ormat of PGP Messag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295280"/>
          <a:ext cx="55623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562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415-2F5D-4D9B-B2BA-A5AF433D3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60480"/>
          <a:ext cx="891540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480"/>
                    <a:ext cx="891540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880-8B05-4A0D-8281-65FED1C29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147600"/>
          <a:ext cx="8839440" cy="61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F92-E28E-4E24-9AC6-325E5667EB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4920" y="160200"/>
          <a:ext cx="8610480" cy="61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200"/>
                    <a:ext cx="861048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795-4344-41EC-AE76-0CF2CC208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Use of Trus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legitimacy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ature trust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wner trust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419720"/>
            <a:ext cx="4191120" cy="947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e Table 5.2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W. Stal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F55-34AB-46E4-8B21-98EF9A0131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28760" y="561960"/>
          <a:ext cx="8288280" cy="57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61960"/>
                    <a:ext cx="8288280" cy="57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60C-1CCA-4E69-BA63-07426DAFA3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oking Public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y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wner issue a key revocation certific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 signature certificate with a revote indic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sponding private key is used to sign the certific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7B3-EB3D-43F3-A742-C7E3E1036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/MIM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/Multipurpose Internet Mail 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will probably emerge as the industry stand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for personal e-mail secur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725-E853-4B4D-95F6-60A24EA39A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etty good priva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/M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95F-EDF6-4F2B-ADA7-5E34AE113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mple Mail Transfer Protocol (SMTP, RFC 822)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TP Limitations - Can not transmit, or has a problem wi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able files, or other binary files (jpeg im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ional language” characters (non-ASCI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s over a certain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II to EBCDIC translation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s longer than a certain length (72 to 254 charact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B9C-7C3B-4361-8711-40B1F7E1D8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ader fields in MIM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ME-Ver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ust be “1.0” -&gt; RFC 2045, RFC 20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Typ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ore types being added by developers (application/w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Transfer-Encod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ow message has been encoded (radix-6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I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Unique identifying character str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 Descrip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Needed when content is not readable text (e.g.,mpe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DDF-A865-46B1-9987-37C930ADD4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/MIME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velop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crypted content and encrypted session keys for recipi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ssage Digest encrypted with private key of “signer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ar-Sign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ed but not encryp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ed and Envelop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rious orderings for encrypting and sig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4EF-AF54-4E1B-8E66-618F4C6F2B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gorithms Use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ssage Digest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A-1 and M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gital Signatur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ret-Key Encryp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iple-DES, RC2/40 (export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blic-Private Key Encryp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SA with key sizes of 512 and 1024 bits, and Diffie-Hellman (for session key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382-632C-465F-B2C7-9332BE965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r Agent Ro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/MIME uses Public-Key Certificates - X.509 version 3 signed by Certification Autho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ey Gener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Diffie-Hellman, DSS, and RSA key-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stra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Public keys must be registered with X.509 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rtificate Sto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Local (as in browser application) for different servic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gned and Enveloped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Various orderings for encrypting and sig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60E-297D-4053-8AD9-F2EF83FD95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r Agent Ro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: Verisign (www.verisign.co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Buyer’s email address confirmed by emailing vital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Postal address is confirmed as well, and data checked against directo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3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Buyer must appear in person, or send notarized docu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A94-AFBC-4897-9D38-2EE346EBDB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mmende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home page: www.pgp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T distribution site for PG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Char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Central: RSA Inc.’s Web 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4E7-960B-4281-8759-1566F93574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etty Good Privac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hilip R. Zimmerman is the creator of PG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a confidentiality and authentication service that can be used for electronic mail and file storage applic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8E4-A069-471E-959D-4DF5AFBAFE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Why Is PGP Popular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t is availiable free on a variety of plat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d on well know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gorithms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ide range of applic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ot developed or controlled by governmental or standards organiz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B9A-5690-4D17-ABA7-413E085B7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perational Descrip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sist of five servi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-mail compat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09C-D4EC-4341-A75F-BEECC14F9F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181080"/>
          <a:ext cx="8991720" cy="61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1080"/>
                    <a:ext cx="899172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893-E1EE-44D0-B8DE-F191E2937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press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GP compresses the message after applying the signature but before encry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placement of the compression algorithm is critic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compression algorithm used is ZIP (described in appendix 5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561-F646-4174-A0E7-3285E50B2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-mail Compatib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heme used is radix-64 conversion (see appendix 5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radix-64 expands the message by 33%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0" y="3276720"/>
          <a:ext cx="525780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76720"/>
                    <a:ext cx="52578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FD8-3C52-4462-B5FA-E40802FCF8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gmentation and Reassembl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restricted to a maximum message length of 50,000 octe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er messages must be broken up into seg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automatically subdivides a message that is to lar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ceiver strip of all e-mail headers and reassemble the bl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F02-B7DF-4E51-B051-936938C48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13:21:20Z</dcterms:created>
  <dc:creator>Henric Johnson</dc:creator>
  <dc:description/>
  <dc:language>en-US</dc:language>
  <cp:lastModifiedBy>Henric Johnson</cp:lastModifiedBy>
  <dcterms:modified xsi:type="dcterms:W3CDTF">2001-08-23T09:50:11Z</dcterms:modified>
  <cp:revision>16</cp:revision>
  <dc:subject/>
  <dc:title>CHAPTER 5</dc:title>
</cp:coreProperties>
</file>