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373-454A-42F2-A042-DC26F9DC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146-C007-425F-9996-BFC39276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1D7-1B29-4E7C-8E39-B6FE7A24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6D9-FFA8-4355-98D9-C5C87FDE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6D9-AAB6-4B25-936E-585E2919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DBC-0D03-4213-A737-5C8C99D7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EF3-A708-427F-99CB-0223EB7C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811-E1F0-4AC0-AAC9-048CFA6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A86-E372-4761-BE48-D9291BB2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622-98F7-40B9-92FF-5FFDE1E8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06E-84D2-4E44-B7E0-B32D92F4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F87-9524-48A6-A7DE-297B8C5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FB9C-D3FB-4F0B-9CDF-205AAF8D9CC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8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Network Management Secur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248520"/>
            <a:ext cx="1447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FF3-1550-471D-8E72-66427787D5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1 Administrative Concep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2057400"/>
          <a:ext cx="615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15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C2B-AB2D-43E8-BF25-5000406512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3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3 defines a security capability to be used in conjunction with SNMPv1 or v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2666880"/>
          <a:ext cx="609624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0962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0DC-FA6C-4100-AC52-54A1A547C5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3 Flow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295280"/>
          <a:ext cx="7848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848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148-8513-4A8A-ABF2-85DE8D8344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ditional SNMP Manag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0" y="1295280"/>
          <a:ext cx="4776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95280"/>
                    <a:ext cx="4776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55D-EA2A-44F2-B283-42064BCB51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ditional SNMP Agen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71880" y="1447920"/>
          <a:ext cx="47224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1447920"/>
                    <a:ext cx="4722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00D-BBCC-4356-A2B5-26727E5838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3 Message Format with US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0" y="1905120"/>
          <a:ext cx="4800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4800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94D-4257-4E2A-8C15-C5A43F247D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User Security Model (USM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esigned to secure again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odification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essage stream mod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isclo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ot intended to secure again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enial of Service (DoS atta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1E1-B2D0-45B2-8363-0F23223D57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Localization Proces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2120" y="1752480"/>
          <a:ext cx="751356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513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961-A98E-4E33-A32A-915B8B9A06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View-Based Access Control Model (VACM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VACM has two characteristic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etermines wheter access to a managed object should be allow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ke use of an MIB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fines the access control policy for this ag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kes it possible for remote configuration to be 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F17-91C0-47CC-9753-62BCFCB4DF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ccess control decis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14400" y="1143000"/>
          <a:ext cx="70866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086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D4F-861E-4AF6-B2EB-64603FEF8D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Basic Concepts of SNM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1 Community Fac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127-AE7D-449F-97D7-4E7421134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ubramanian, Mani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Network Management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-Wesley, 2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tallings, W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SNMP, SNMPv1, SNMPv3 and RMON 1 and 2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-Wesley, 199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ETF SNMPv3 working group (Web sit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3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2D7-600C-4186-BB50-029DD6C27A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Basic Concepts of SNMP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n integrated collection of tools for network monitoring and contr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Single operato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inimal amount of separate equipment. Software and network communications capability built into the existing equip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NMP key el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nagement s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nagament ag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nagement information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Network Management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Get, Set and Notif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257-AA69-4CEE-8902-CE15930AD7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otocol context of SNMP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1600" y="1981080"/>
          <a:ext cx="6545160" cy="45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54516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9CE-FB12-43CB-B745-443353A58A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oxy Configur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1981080"/>
          <a:ext cx="861048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61048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507-5B92-408F-8DBA-B2C84CAFD5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152280"/>
          <a:ext cx="86108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6108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D6D-138A-4841-97ED-685FBAA712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 v1 and v2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rap – an unsolicited message (reporting an alarm condi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1 is ”connectionless” since it utilizes UDP (rather than TCP) as the transport layer protoco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2 allows the use of TCP for ”reliable, connection-oriented” serv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964-2C2C-41C1-950B-55116922DF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Comic Sans MS"/>
              </a:rPr>
              <a:t>Comparison of SNMPv1 and SNMPv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1089000"/>
          <a:ext cx="8763120" cy="571824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MPv1 P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MPv2 P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quest value for each listed ob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quest next value for each listed ob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--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Bulk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quest multiple valu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 value for each listed ob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--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mana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mit unsolicited inform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spon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pon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nt to manager or Manage  to manager(SNMPv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pond to manager 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MPv2-Tr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nt to mana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mit unsolicited inform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962520" y="6324480"/>
            <a:ext cx="121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D19-0D4E-458B-8B1A-E308A9E8A8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1 Community Facil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 Community – Relationship between an SNMP agent and SNMP manag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ree aspect of agent contro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ccess poli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roxy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379-6944-4894-ABF4-60354D0FB0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4:34:11Z</dcterms:created>
  <dc:creator>Henric Johnson</dc:creator>
  <dc:description/>
  <dc:language>en-US</dc:language>
  <cp:lastModifiedBy>Henric Johnson</cp:lastModifiedBy>
  <dcterms:modified xsi:type="dcterms:W3CDTF">2001-08-23T09:51:22Z</dcterms:modified>
  <cp:revision>12</cp:revision>
  <dc:subject/>
  <dc:title>Chapter 8</dc:title>
</cp:coreProperties>
</file>