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7EE-542E-47EA-BFD6-E835C4C3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D30-3E94-410A-8114-5B5FD383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958-CD6E-40D2-A476-31B6A487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61F-B131-4B0C-99A9-EB9F8242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D0A-B8D2-4281-8B4E-DE71765B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567-3BCF-4225-AF8F-C6B32014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87D-365F-47B7-BC0D-FF75ADED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740-25A3-4BC4-9469-5D1439CB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8CF-6477-405F-A42F-271164F6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4E1-4476-4EBF-A2A1-59E45B9C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8FE-A67C-4B81-A571-2DE37836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86A-AE31-4549-9CB2-6320E8CC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480A-B4CA-4E4D-ABA7-BE8EC6535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6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omic Sans MS"/>
              </a:rPr>
              <a:t>IP Securit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64832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6248520"/>
            <a:ext cx="12189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EE8E-58B3-4BCF-8EE9-47826313B8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 Security Architectur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PSec document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FC 2401: An overview of security archit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FC 2402: Description of a packet encryption extension to IPv4 and IPv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FC 2406: Description of a packet emcryption extension to IPv4 and IPv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FC 2408: Specification of key managament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73E-CB57-4B0A-BC6D-4974814EF8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Sec Document Overview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09680" y="1447920"/>
          <a:ext cx="4559400" cy="52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447920"/>
                    <a:ext cx="45594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A8F-2038-46A4-AEFE-603590C68F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Sec Servic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ccess Contr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nectionless integ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ata origin authent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ejection of replayed pack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fidentiality (encrypt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Limited traffic flow confidential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2C9-13E8-40E7-A736-D09F8B9BD7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curity Associations (SA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 one way relationsship between a sender and a receiv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dentified by three parameter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curity Parameter Index (SP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P Destination add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curity Protocol Identif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38D-94FF-4404-AE5D-B9C3ADFC7C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33520" y="609480"/>
          <a:ext cx="8229600" cy="5600520"/>
        </p:xfrm>
        <a:graphic>
          <a:graphicData uri="http://schemas.openxmlformats.org/drawingml/2006/table">
            <a:tbl>
              <a:tblPr/>
              <a:tblGrid>
                <a:gridCol w="2743200"/>
                <a:gridCol w="2895840"/>
                <a:gridCol w="2590560"/>
              </a:tblGrid>
              <a:tr h="114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port Mode 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nnel Mode 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thenticates IP payload and selected portions of IP header and IPv6 extension hea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thenticates entire inner IP packet plus selected portions of outer IP h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rypts IP payload and any IPv6 extesion h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rypts inner IP pac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 with authent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rypts IP payload and any IPv6 extesion header. Authenticates IP payload but no IP h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rypts inner IP packet. Authenticates inner IP pack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974-C221-4B2C-B74F-4F93893EBC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Before applying AH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280" y="2514600"/>
          <a:ext cx="8305920" cy="27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14600"/>
                    <a:ext cx="830592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50A-B8B2-4F66-9C72-43E5B6E9B8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ansport Mode (AH Authentication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2286000"/>
          <a:ext cx="847872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847872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2AE4-A44B-457E-AEB4-71D5ECE4C0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unnel Mode (AH Authentication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880" y="2065320"/>
          <a:ext cx="8229600" cy="35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65320"/>
                    <a:ext cx="822960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952-C591-4904-B571-39F0C0224A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Authentication Header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Provides support for data integrity and authentication (MAC code) of IP packe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Guards against replay attac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47920" y="2819520"/>
          <a:ext cx="609588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819520"/>
                    <a:ext cx="609588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5F8E-64B7-4D21-A03D-7D2888054A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nd-to-end versus End-to-Intermediate Authentic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981080"/>
          <a:ext cx="883908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83908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966-1A69-4A4A-AE98-089EB0DA14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nternetworking and Internet Protocols (Appendix 6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P Security Over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P Security Archit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ombinations of Security Associ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Key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450-00C7-41FC-9F03-FF39DBD476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ncapsulating Security Payload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SP provides confidentiality servi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00200" y="2133720"/>
          <a:ext cx="58435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8435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AA5-D729-4D26-BE88-A56FEB57D2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ncryption and Authentication Algorithm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ncryp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hree-key triple 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RC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hree-key triple ID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CA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Blowfi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uthentic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HMAC-MD5-9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HMAC-SHA-1-9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573-ED05-45B6-A5B8-AE7DE4DB9F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SP Encryption and Authentic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1905120"/>
          <a:ext cx="8305920" cy="41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305920" cy="41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EC6-9944-4933-BA3B-C9657A1E87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SP Encryption and Authentic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2149560"/>
          <a:ext cx="82296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49560"/>
                    <a:ext cx="82296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5B0-F917-4F98-8B8B-1C47F03C17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mbinations of Security Association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24160" y="1981080"/>
          <a:ext cx="6295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1981080"/>
                    <a:ext cx="6295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CFB-579F-4DE8-9A21-B1543731DE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mbinations of Security Association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74680" y="1981080"/>
          <a:ext cx="6792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1981080"/>
                    <a:ext cx="6792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979-450C-4371-8D52-097CBEB33C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mbinations of Security Association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76520" y="2057400"/>
          <a:ext cx="5757840" cy="39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5784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9F3-DB5C-49C1-B89F-0D15B786F7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mbinations of Security Association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57400" y="1905120"/>
          <a:ext cx="530064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530064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234-3CA0-4CB3-83A5-D3EC4FC5C2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y Managemen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utomated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Oakley Key Determination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nternet Security Association and Key Management Protocol (ISAKM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231-143B-4E39-B41E-252DE774F9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akle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ree authentication method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igital signa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Public-key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ymmetric-key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9D8-F247-4E24-8365-035E45C917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CP/IP Exampl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1371600"/>
          <a:ext cx="737892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37892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29A-10F3-4DE6-A1DF-F68A543000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SAKMP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447920" y="1523880"/>
          <a:ext cx="6173640" cy="49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17364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47F-7E25-4843-89D0-2B2C31BCAC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mer, D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Internetworking with TCP/IP, Volume I: Principles, Protocols and Architecture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Prentic Hall, 199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tevens, W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TCP/IP Illustrated, Volume 1: The Protocols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Addison-Wesley, 199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C66-37CE-418F-8528-084D11B195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v4 Header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2286000"/>
          <a:ext cx="8825040" cy="34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0"/>
                    <a:ext cx="8825040" cy="34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6262-EC9E-4123-9FD4-DDF73EA500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v6 Header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7363080" cy="43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363080" cy="43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B59-9162-4E55-AAD6-6CF7E3BDA9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 Security Overview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PSec is not a single protocol. Instead, IPSec provides a set of security algorithms plus a general framework that allows a pair of communicating entities to use whichever algorithms provide security appropriate for the communic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066C-133F-4BC6-8F25-4BCDD746CD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 Security Overview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pplications of IPS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cure branch office connectivity over the 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cure remote access over the 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stablsihing extranet and intranet connectivity with partn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nhancing electronic commerce secur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0AB-9409-46CD-A879-AD8F9F8201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 Security Scenario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19320" y="1828800"/>
          <a:ext cx="6629400" cy="42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662940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2EF-9CDB-4656-9D38-650BCC0624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 Security Overview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Benefits of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ransparent to applications (below transport layer (TCP, UD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Provide security for individual us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PSec can assure tha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A router or neighbor advertisement comes from an authorized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A redirect message comes from the router to which the initial packet was s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A routing update is not forg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6A8-1287-4313-9715-F6522B3DA2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1T08:22:57Z</dcterms:created>
  <dc:creator>Henric Johnson</dc:creator>
  <dc:description/>
  <dc:language>en-US</dc:language>
  <cp:lastModifiedBy>Henric Johnson</cp:lastModifiedBy>
  <dcterms:modified xsi:type="dcterms:W3CDTF">2001-08-23T09:50:36Z</dcterms:modified>
  <cp:revision>14</cp:revision>
  <dc:subject/>
  <dc:title>Chapter 6</dc:title>
</cp:coreProperties>
</file>