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BCEA-2CF3-4164-9788-AFCF72D44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5C02-3EA3-489F-937C-A39303005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8383-49D9-4094-8A8B-C6C348951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5EC7-50E2-47F2-BE4D-0C21E1DD4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E2C9-FE53-46E6-A31C-F9764BE74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8454-365B-4BCD-91D7-9983481FD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D846-2B19-4E37-98E1-35C47B2BF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0F81-E218-4A63-A79B-5C933D04D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25E2-CF2C-49E3-88AA-1E74F7AB8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9559-99A9-48DF-9B29-687BBE885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F072-0DA5-41C4-A73E-86FB5C06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A046-39CD-49BA-8B2C-8F2622EBC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0306A-5898-4B05-8813-22EC82D418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Network Security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240" y="342900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enric John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lekinge Institute of Technology, Swe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ww.its.bth.se/staff/hjo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enric.johnson@bth.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+46 708 2503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j0254382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1154160" cy="1371600"/>
          </a:xfrm>
          <a:prstGeom prst="rect">
            <a:avLst/>
          </a:prstGeom>
          <a:ln w="0">
            <a:noFill/>
          </a:ln>
        </p:spPr>
      </p:pic>
      <p:pic>
        <p:nvPicPr>
          <p:cNvPr id="44" name="bth" descr=""/>
          <p:cNvPicPr/>
          <p:nvPr/>
        </p:nvPicPr>
        <p:blipFill>
          <a:blip r:embed="rId2"/>
          <a:stretch/>
        </p:blipFill>
        <p:spPr>
          <a:xfrm>
            <a:off x="7772400" y="556272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886200" y="6248520"/>
            <a:ext cx="12193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2C1C-A1E6-4863-B05A-D6D592FE025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01600" y="1346040"/>
            <a:ext cx="8739360" cy="4165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911B-C4DE-426B-B529-D9EB926AAC8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Methods of Def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cry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ftware Controls (access limitations in a data base, in operating system protect each user from other use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rdware Controls (smartc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olicies (frequent changes of passwor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hysical Contr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2F54-0F5B-4D6C-B583-3475462DBDB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nternet standards and RF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Internet socie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net Architecture Board (IA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net Engineering Task Force (IET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net Engineering Steering Group (IES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43B6-1315-497E-8B81-B1096BA153E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nternet RFC Publication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743200" y="2133720"/>
            <a:ext cx="4052880" cy="4184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9C19-C648-4836-982E-3D6A27BC683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Recommended Rea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Pfleeger, C. </a:t>
            </a:r>
            <a:r>
              <a:rPr b="0" i="1" lang="sv-SE" sz="3200" spc="-1" strike="noStrike">
                <a:solidFill>
                  <a:srgbClr val="000000"/>
                </a:solidFill>
                <a:latin typeface="Comic Sans MS"/>
              </a:rPr>
              <a:t>Security in Computing.</a:t>
            </a: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 Prentice Hall, 1997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Mel, H.X. Baker, D. </a:t>
            </a:r>
            <a:r>
              <a:rPr b="0" i="1" lang="sv-SE" sz="3200" spc="-1" strike="noStrike">
                <a:solidFill>
                  <a:srgbClr val="000000"/>
                </a:solidFill>
                <a:latin typeface="Comic Sans MS"/>
              </a:rPr>
              <a:t>Cryptography Decrypted</a:t>
            </a: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. Addison Wesley, 200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640F-1BF6-40D4-BBC3-555B559A645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ttacks, services and mechanis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urity atta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urity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thods of Def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model for Internetwork Secu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ternet standards and RF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1E7C-9E27-4973-8BD4-DC079EAC2B6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ttacks, Services and Mechanis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ecurity Attack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y action that compromises the security of inform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ecurity Mechanism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mechanism that is designed to detect, prevent, or recover from a security attac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ecurity Service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service that enhances the security of data processing systems and information transfers.  A security service makes use of one or more security mechanis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D12A-E8AA-4E32-8440-6FD0495FE0A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ecurity Atta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477120" cy="4802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6622-2B72-4B7C-9610-BF8C9820A2A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ecurity Atta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terruptio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is is an attack on avail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terceptio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is is an attack on confidenti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odficatio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is is an attack on integt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abricatio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is is an attack on authenti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94A2-9FA0-46DD-BBCC-4E6E4B36D93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ecurity Go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8120" y="1905120"/>
            <a:ext cx="3276360" cy="2971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00200" y="3276720"/>
            <a:ext cx="3276720" cy="29718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19720" y="3352680"/>
            <a:ext cx="3276360" cy="2971800"/>
          </a:xfrm>
          <a:prstGeom prst="ellipse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4952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teg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81280" y="25909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10080" y="5105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vali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CE40-6634-4776-B86A-50C507DE714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924680" cy="4029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7FB3-24DA-42EA-97D4-F3A831F3DA2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ecurity Serv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fidentiality (privac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entication (who created or sent the da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grity (has not been alter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n-repudiation (the order is fi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cess control (prevent misuse of resourc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vailability (permanence, non-erasu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nial of Service Atta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irus that deletes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85CB-D803-4DC2-848F-5404A257063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08080" y="341280"/>
            <a:ext cx="8726400" cy="6174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DB73-0AE1-492A-8FEF-D4B648F69BF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6T20:52:39Z</dcterms:created>
  <dc:creator>Vicky</dc:creator>
  <dc:description/>
  <dc:language>en-US</dc:language>
  <cp:lastModifiedBy>Henric Johnson</cp:lastModifiedBy>
  <dcterms:modified xsi:type="dcterms:W3CDTF">2001-08-23T09:46:37Z</dcterms:modified>
  <cp:revision>11</cp:revision>
  <dc:subject/>
  <dc:title>Network Security</dc:title>
</cp:coreProperties>
</file>