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3BF-17B4-425D-B4C1-57ED50A1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7CE-0CE5-4C7E-914E-EB79EA3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1B5-2643-4E9B-8FA2-6C918443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8D8-37F6-4E5C-AC66-E19D28E4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164-DE17-4A02-933B-CE811D1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12C-2F58-4031-9791-FA6A281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2D8-6B6C-4E84-AF4B-E3FE5A4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6A4-DE1B-474F-9341-3FCB3266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AAE-7CF9-4084-97A9-8D6738C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82C-F5E1-42C7-9B9D-BB8D771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B9B-A771-4A02-A0CC-A7BB917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E20-503F-4778-A34F-BF15801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E9A-2DD6-429C-8BA7-D3356800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5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Electronic mail security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D58-C15C-4458-BD8E-30A8C79F62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ary of PGP Services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295280"/>
          <a:ext cx="708804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708804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86200" y="6324480"/>
            <a:ext cx="1371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FC9-1534-4ABD-9D94-047C9D4080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4920" y="90360"/>
          <a:ext cx="8686800" cy="61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0360"/>
                    <a:ext cx="86868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A42-F429-4089-A159-E12BF8B64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ormat of PGP Messa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295280"/>
          <a:ext cx="5562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562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0D1-341A-4423-87BC-C7A1AB8B28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60480"/>
          <a:ext cx="891540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480"/>
                    <a:ext cx="891540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987-5ADB-4B10-ACF0-B596F33CF1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147600"/>
          <a:ext cx="8839440" cy="61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50B-1F0D-4A34-BDFA-8677CA4C2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4920" y="160200"/>
          <a:ext cx="8610480" cy="61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200"/>
                    <a:ext cx="8610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3C2-85B8-47CB-8E79-F3B254321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Use of Trus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legitimacy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ture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wner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419720"/>
            <a:ext cx="4191120" cy="947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e Table 5.2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W. Stal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2A-FB3C-44A3-88BD-C714B53C7C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28760" y="561960"/>
          <a:ext cx="828828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61960"/>
                    <a:ext cx="828828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806-083B-44A3-BB82-E7AF1E8F0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king Public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y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wner issue a key revocation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 signature certificate with a revote indic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sponding private key is used to sign the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273-4D05-43B6-B98A-66F4FEB1E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/Multipurpose Internet Mail 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will probably emerge as the industry stand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for personal e-mail secur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59C-44AE-4357-8F52-ED5AB22DEE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207-D625-4DB9-9BE2-691C11BF53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mple Mail Transfer Protocol (SMTP, RFC 822)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TP Limitations - Can not transmit, or has a problem wi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able files, or other binary files (jpeg im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ional language” characters (non-ASCI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s over a certain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to EBCDIC translation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s longer than a certain length (72 to 254 charac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0EE-0E2C-4DB5-ACFA-1A7E73F5C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ader fields in 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ME-Ver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ust be “1.0” -&gt; RFC 2045, RFC 20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yp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ore types being added by developers (application/w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ransfer-Encod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ow message has been encoded (radix-6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I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Unique identifying character str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 Descrip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Needed when content is not readable text (e.g.,mpe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4CF-2579-4C10-8C9D-ABB977892E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crypted content and encrypted session keys for recipi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ssage Digest encrypted with private key of “signer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ar-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ed but not encryp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and 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rious orderings for encrypting and sig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9DB-4823-4A62-AEF8-2A66001653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gorithms Use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ssage Digest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A-1 and M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gital Signatur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ret-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iple-DES, RC2/40 (export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blic-Private 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SA with key sizes of 512 and 1024 bits, and Diffie-Hellman (for session key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1BD-A73B-4249-8163-6A56A4CBD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/MIME uses Public-Key Certificates - X.509 version 3 signed by Certification Autho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y Gener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Diffie-Hellman, DSS, and RSA key-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str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Public keys must be registered with X.509 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rtificate Sto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Local (as in browser application) for different servi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gned and Enveloped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Various orderings for encrypting and sig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FBE-3AB4-461D-BA4F-163640B040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: Verisign (www.verisign.co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’s email address confirmed by emailing vital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ostal address is confirmed as well, and data checked against directo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3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 must appear in person, or send notarized docu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09E-7A45-49DA-AB7C-0AB3E254CE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home page: www.pgp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T distribution site for PG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har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entral: RSA Inc.’s Web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B39-8A77-4B30-B632-318D076AE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hilip R. Zimmerman is the creator of PG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confidentiality and authentication service that can be used for electronic mail and file storage applic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AAB-57F4-4DEA-8081-4DE73870E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hy Is PGP Popular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t is availiable free on a variety of plat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well know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gorithm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ide range of applic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developed or controlled by governmental or standards organiz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498-CBAE-42A4-898C-3A5FAD6E7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perational Descrip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sist of five servi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E0B-2758-475F-B48C-C1D933EA6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181080"/>
          <a:ext cx="8991720" cy="61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080"/>
                    <a:ext cx="89917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268-DC28-43F5-939D-E6CD20550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GP compresses the message after applying the signature but before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placement of the compression algorithm is critic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compression algorithm used is ZIP (described in appendix 5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355-83D4-4D4C-A185-9519FCBF0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heme used is radix-64 conversion (see appendix 5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radix-64 expands the message by 33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3276720"/>
          <a:ext cx="525780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52578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905-A068-4CC3-9A43-0D7120771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gmentation and Reassembl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restricted to a maximum message length of 50,000 oct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er messages must be broken up into seg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automatically subdivides a message that is to lar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ceiver strip of all e-mail headers and reassemble the bl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835-3139-4EAD-8A9F-FC92D610B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13:21:20Z</dcterms:created>
  <dc:creator>Henric Johnson</dc:creator>
  <dc:description/>
  <dc:language>en-US</dc:language>
  <cp:lastModifiedBy>Henric Johnson</cp:lastModifiedBy>
  <dcterms:modified xsi:type="dcterms:W3CDTF">2001-08-23T09:50:11Z</dcterms:modified>
  <cp:revision>16</cp:revision>
  <dc:subject/>
  <dc:title>CHAPTER 5</dc:title>
</cp:coreProperties>
</file>