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EDD9-5591-415D-8CE2-98253820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49D-18FC-4A38-93BB-9B9ECC94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02B-9F8D-4D5B-98A5-20F038B3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213A-844A-49C0-89EF-49D2C1D3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0CB-3DE2-4556-B581-17A60BD0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3F17-0D5C-4CAA-88EA-C4AA82D4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326-97E4-4DA1-B8AE-7893B767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FD3-AAEB-4C56-86BC-65B4C50A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651-E883-484C-8828-A2E2CE91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F05-17E7-49FF-814E-E0028CE1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A97-F473-4C0A-A507-687C70A5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A4D-1110-4AA9-901B-354B41CD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992D-9F60-439B-AE4D-BA1F6D8DF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00000"/>
                </a:solidFill>
                <a:latin typeface="Comic Sans MS"/>
              </a:rPr>
              <a:t>Conventional Encryption Message Confidentia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029200"/>
            <a:ext cx="9144000" cy="15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33920" y="6324480"/>
            <a:ext cx="1600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798-C7AD-4E97-B819-F69767D43D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nventional Encryptio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ata Encryption Standard (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most widely used encryp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algorithm is reffered to the Data Encryption Algorithm (D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ES is a block cip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plaintext is processed in 64-bi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key is 56-bits in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07F-C659-45FC-960A-B040B67EE5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28760" y="181080"/>
          <a:ext cx="4686480" cy="649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181080"/>
                    <a:ext cx="4686480" cy="64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1C1-D943-4098-9558-A3FA1422CC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C5E0-0FBC-4DD4-A1F9-C0777CB6C4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omic Sans MS"/>
              </a:rPr>
              <a:t>The overall processing at each ite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= L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-1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    F(R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-1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omic Sans MS"/>
              </a:rPr>
              <a:t>Concerns abou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e algorithm and the key length (56-b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971800" y="3657600"/>
                <a:ext cx="436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E71C-6609-4340-A115-B3F8E0D9A2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ime to break a code (10</a:t>
            </a:r>
            <a:r>
              <a:rPr b="1" lang="sv-SE" sz="4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 decryptions/µ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105160" cy="506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2F6-8B47-4B0E-8C6E-50FC3D2D86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iple 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three keys and three executions of the DES algorithm (encrypt-decrypt-encry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C = cipher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P = 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EK[X] = encryption of X using key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DK[Y] = decryption of Y using key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ffective key length of 168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3962520"/>
            <a:ext cx="297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3581280"/>
            <a:ext cx="3657600" cy="52056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 = E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K3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[D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K2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[E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K1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[P]]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D37-9E13-4C52-9F9E-023B03FE25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iple 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9000" y="1038240"/>
          <a:ext cx="40860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9000" y="1038240"/>
                    <a:ext cx="40860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DD50-D9CD-4334-9E57-4804036276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ther Symmetric Block Cip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omic Sans MS"/>
              </a:rPr>
              <a:t>International Data Encryption Algorithm (IDE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128-bit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Used in PG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omic Sans MS"/>
              </a:rPr>
              <a:t>Blowf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asy to imp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High execution spe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Run in less than 5K of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0F0-546A-48F0-A02F-373CC069C2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ther Symmetric Block Cip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RC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itable for hardware and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ast, si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aptable to processors of different word length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riable number of rou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riable-length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ow memory requi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gh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ata-dependent ro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ast-12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ey size from 40 to 128 b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round function differs from round to r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E95-7ABF-4B69-968C-39B8226922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ipher Block Modes of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pher Block Chaining Mode (CB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put to the encryption algorithm is the XOR of the current plaintext block and the preceding ciphertext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eating pattern of 64-bits are not ex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600200" y="4191120"/>
            <a:ext cx="4905360" cy="231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BE9-A494-43B3-B570-55A8900657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nventional Encryp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nventional Encryp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pher Block Modes of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cation of Encryption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D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6F8-1FFE-4D1B-9B1E-8CD573D012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820-D341-4775-ACF8-B3E7C582CE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Location of Encryption De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Link encryp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A lot of encryption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High level of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Decrypt each packet at every swi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End-to-end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he source encrypt and the receiver decry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Payload encry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Header in the 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High Security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Both link and end-to-end encryption are needed (see Figure 2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CA3-5465-498C-BE56-83B2A3064E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640" y="163440"/>
            <a:ext cx="9107280" cy="652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8AC9-020D-4B3D-80B0-9CBDEE1B40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y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key could be selected by A and physically delivered to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hird party could select the key and physically deliver it to A and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 and B have previously used a key, one party could transmit the new key to the other, encrypted using the old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 and B each have an encrypted connection to a third party C, C could deliver a key on the encrypted links to A and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C8D-E6F8-4F3A-86D7-5A79914F61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y Distribution (See Figure 2.10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ssion ke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a encrypted with a one-time session key.At the conclusion of the session the key is destr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manent ke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d between entities for the purpose of distributing sessio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546-D7BD-4B01-A89B-C85AA31440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18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71F-1573-4BC6-B121-F1537F0D86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commended 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tallings, W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Cryptography and Network Security: Principles and Practice, 2</a:t>
            </a:r>
            <a:r>
              <a:rPr b="0" i="1" lang="sv-SE" sz="32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 edition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Prentice Hall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cneier, B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Applied Cryptography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, New York: Wiley,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Mel, H.X. Baker, D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Cryptography Decrypted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Addison Wesley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4A5-7AFB-4219-85C1-103E56221A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nventional Encryption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encryption scheme has five ingredi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i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ryption 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pher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ity depends on the secrecy of the key, not the secrecy of the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53B-A024-405E-991B-74B173FF5D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nventional Encryption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6480" y="1981080"/>
            <a:ext cx="73310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CF9-4E72-4EFA-BB15-C03C0107B0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rypt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ed along three independent dimens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ype of operations used for transforming plaintext to cipher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umber of key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mmetric (single k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ymmetric (two-keys, or public-key encry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y in which the plaintext is proc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06E-0CA9-4E7C-945C-9C89DF3364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verage time required for exhaustive</a:t>
            </a: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 key sear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2209680"/>
          <a:ext cx="8305920" cy="3799080"/>
        </p:xfrm>
        <a:graphic>
          <a:graphicData uri="http://schemas.openxmlformats.org/drawingml/2006/table">
            <a:tbl>
              <a:tblPr/>
              <a:tblGrid>
                <a:gridCol w="1752480"/>
                <a:gridCol w="3124440"/>
                <a:gridCol w="342900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y Size (bit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mber of Alternative Ke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 required at 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Decryption/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µ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4.3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5 milliseco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7.2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8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3.4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4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sv-SE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3.7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9 </a:t>
                      </a: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sv-SE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D02-EF16-40B8-BDDA-E8855FC668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eistel Cipher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rtually all conventional block encryption algorithms, including DES have a structure first described by Horst Feistel of IBM in 197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alisation of a Fesitel Network depends on the choice of the following parameters and des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eatures (see next slide)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DB3-4493-453F-BF7A-6AA765DC59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eistel Cipher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ock siz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arger block sizes mean greater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ey Siz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arger key size means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greater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Number of rounds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 multiple rounds offer increas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Subkey generation algorithm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greater complexity will lead to greater difficulty of crypt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Fast software encryption/decryption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the speed of execution of the algorithm becomes a con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FA6-0952-4D35-BC45-03619384F2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74056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36D-5CC6-47BF-9AA6-76A5CBC62C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49:13Z</dcterms:created>
  <dc:creator>Henric Johnson</dc:creator>
  <dc:description/>
  <dc:language>en-US</dc:language>
  <cp:lastModifiedBy>Henric Johnson</cp:lastModifiedBy>
  <dcterms:modified xsi:type="dcterms:W3CDTF">2001-08-23T09:47:13Z</dcterms:modified>
  <cp:revision>23</cp:revision>
  <dc:subject/>
  <dc:title>Chapter 2</dc:title>
</cp:coreProperties>
</file>