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D83-F4D2-4877-AD67-F640C6C0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1F3-E78F-4971-ACE9-2CEC4ACC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CB6-1DDC-44B6-9953-723FE4EB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7E3-D849-4917-A47C-5450C8E2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AFD-0858-4460-BE58-724EF264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0FE-56CD-4C86-AD0D-2A51DF1D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30F-C659-4C0B-A7C5-1A4316AD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23D-72E7-4BC6-B010-7B9C9D7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88A-1DF2-4388-B04F-8711CC2D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29C-28DA-429B-AC33-D8EF610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CB1-34B3-40B5-B862-5396DF9A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3B7-96C9-45BD-868F-AB58A12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B837-F3F3-470E-903D-217DE8A45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4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Authentication Application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62485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A7A-5BAD-4551-9285-F59D1E9F40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200" spc="-1" strike="noStrike">
                <a:solidFill>
                  <a:srgbClr val="000000"/>
                </a:solidFill>
                <a:latin typeface="Comic Sans MS"/>
              </a:rPr>
              <a:t>Version 4 Authentication Dialogue</a:t>
            </a:r>
            <a:endParaRPr b="1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1447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mic Sans MS"/>
              </a:rPr>
              <a:t>Authentication Service Exhange: To obtain Ticket-Granting Ti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AS: 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         IDc || IDtgs ||T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C: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        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Kc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[K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c,tg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ID</a:t>
            </a:r>
            <a:r>
              <a:rPr b="0" lang="sv-SE" sz="1400" spc="-1" strike="noStrike">
                <a:solidFill>
                  <a:srgbClr val="000000"/>
                </a:solidFill>
                <a:latin typeface="Comic Sans MS"/>
              </a:rPr>
              <a:t>tg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|| TS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Lifetim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Ticket</a:t>
            </a:r>
            <a:r>
              <a:rPr b="0" lang="sv-SE" sz="1200" spc="-1" strike="noStrike">
                <a:solidFill>
                  <a:srgbClr val="000000"/>
                </a:solidFill>
                <a:latin typeface="Comic Sans MS"/>
              </a:rPr>
              <a:t>tg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8120"/>
            <a:ext cx="8534160" cy="1710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900" spc="-1" strike="noStrike">
                <a:solidFill>
                  <a:srgbClr val="000000"/>
                </a:solidFill>
                <a:latin typeface="Comic Sans MS"/>
              </a:rPr>
              <a:t>Ticket-Granting Service Echange: To obtain Service-Granting Ti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3)  C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TGS:             IDv ||Ticket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tgs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Authenticato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4)    TGS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C:           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Kc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[K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c,¨v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IDv || TS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Ticket</a:t>
            </a:r>
            <a:r>
              <a:rPr b="0" lang="sv-SE" sz="12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534160" cy="122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mic Sans MS"/>
              </a:rPr>
              <a:t>Client/Server Authentication Exhange: To Obtai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5) C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V:                 Ticket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Authenticator</a:t>
            </a:r>
            <a:r>
              <a:rPr b="0" lang="sv-SE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6)  V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C: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         EKc,v[TS5 +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608-A662-44D5-A5B1-8AE5FCE495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verview of 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095480"/>
            <a:ext cx="7543800" cy="54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DDA-9936-4504-A514-AA37A07B47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quest for Service in Another Real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057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43200" y="1371600"/>
          <a:ext cx="42022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371600"/>
                    <a:ext cx="4202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FED-B615-4DF0-9B90-E9DEAD03F5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fference Between Version 4 and 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ion system dependence (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V.4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et protocol depen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ssage byte ord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cket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entication forwar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realm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AAD-5090-4196-A3CB-D510EB3711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erberos Encryption Technique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327400" y="914400"/>
          <a:ext cx="47149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914400"/>
                    <a:ext cx="4714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CB8-F1CB-471D-8929-D5A0F45DCE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CBC Mod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48E-ED2A-4336-AA30-9385B40B6B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erberos - in practise</a:t>
            </a: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urrently have two Kerberos versions</a:t>
            </a: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 : restricted to a single realm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5 : allows inter-realm authentication, in beta test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beros v5 is an Internet standard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ied in RFC1510, and used by many utilitie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 use Kerberos</a:t>
            </a: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ed to have a KDC on your network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ed to have Kerberised applications running on all participating system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jor problem - US export restricti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beros cannot be directly distributed outside the US in source format (&amp; binary versions must obscure crypto routine entry points and have no encryption)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se crypto libraries must be reimplemented locall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2A8-DFC4-42C0-9E8F-3A3B8DAE04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.509 Authentication Servic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ed set of servers that maintains a database about us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certificate contains the public key of a user and is signed with the private key of a 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used in S/MIME, IP Security, SSL/TLS and S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SA is recommended to u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87B-7901-4B99-9683-E0A01C88F3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.509 Forma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55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AC7-BFDB-43E1-B8F5-5C24DFEAB4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858000" cy="4471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90720" y="838080"/>
            <a:ext cx="73152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11430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ical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gital Signatur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5D4-15E8-4CCA-969F-223DE16747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X.509 Authentication Serv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B62-60E6-41E9-A4AA-6C5ABC7162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btaining a User’s Certificat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istics of certificates generated by C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user with access to the public key of the CA can recover the user public key that was certifi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art other than the CA can modify the certificate without this being detec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DFA-269F-4D75-8ABE-FD42606A13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.509 CA Hierarch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865760" cy="555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005-0B5E-4BE6-8FB0-7E3CAB6D50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ocation of Certifica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sons for revoc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rs secret key is assumed to be compromis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r is no longer certified by this C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’s certificate is assumed to be compromis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6CE-BA17-419C-87AA-9FF7242FB6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uthentication Procedur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71800" y="1143000"/>
          <a:ext cx="369396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143000"/>
                    <a:ext cx="369396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988-67F4-4E75-8F35-8C0648DEA3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.whatis.com (search for kerber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yant, W. Designing an Authentication System: A Dialogue in Four Scene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eb.mit.edu/kerberos/www/dialogue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hl, J.; Neuman, B. “The Evolotion of the Kerberos Authentication Service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eb.mit.edu/kerberos/www/papers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isi.edu/gost/info/kerberos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107-0825-4CD9-A8D5-AD15B37B7A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ity Concer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concerns ar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melin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ovide confidentiality must encrypt identification and session key inf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requires the use of previously shared private or public key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 timeliness to prevent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ay attack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d by using sequence numbers or timestamps or challenge/respon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94D-7753-47B3-8634-D1FE971C91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n Greek mythology, a many headed dog, the guardian of the entrance of H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krblogo_big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153036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785-2023-48F6-81A1-62727FC13D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wish to access services on serv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threats exi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pretend to be another us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lter the network address of a workst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eavesdrop on exchanges and use a replay atta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34C-8EC7-4586-9B03-D4E3C91013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s a centralized authentication server to authenticate users to servers and servers to us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s on conventional encryption, making no use of public-key encry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versions: version 4 and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ion 4 makes use of 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315-A526-4563-8155-BBB70B702B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 Version 4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r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=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= authentication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 =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identifier of user on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identifier of 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password of user on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network address of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secret encryption key shared by AS an 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S = timest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|| = concate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CA2-8242-42C3-AA40-A48258F16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 Simple Authentication Dialogu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S: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C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i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V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i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icket = E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12D-767C-4FBD-96F0-4FDB5499C5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Version 4 Authentication Dialogu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etime associated with the ticket-granting ti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o shor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eatedly asked for passw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o long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reater opportunity to rep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hreat is that an opponent will steal the ticket and us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fore it exp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E29-C5C1-4830-B9F1-1337EBEC39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9:51:07Z</dcterms:created>
  <dc:creator>Henric Johnson</dc:creator>
  <dc:description/>
  <dc:language>en-US</dc:language>
  <cp:lastModifiedBy>Henric Johnson</cp:lastModifiedBy>
  <dcterms:modified xsi:type="dcterms:W3CDTF">2001-08-23T09:48:51Z</dcterms:modified>
  <cp:revision>20</cp:revision>
  <dc:subject/>
  <dc:title>PowerPoint Presentation</dc:title>
</cp:coreProperties>
</file>