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533-3055-4196-AD5D-9553E466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337-CF33-48EF-9015-9893BA6C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7ED-A039-457E-9173-DF5A72FA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5E9-06FA-4DFE-91C2-973AA29B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1F9-B6DE-4353-8735-B4E0C4C2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FA2-C5F2-4914-A10A-C1BDD44C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5E5-6F8A-467E-8B03-E7A3321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F8A-F5DA-41A3-B199-7BC462F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3D2-908E-49FF-805F-15E6A4F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539-9536-491F-9896-E78DE52A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54B-C2BC-4ACD-B3D3-081BE7A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A5D-18A8-449D-A4B1-FFCABA8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5B7-E70B-490E-9D01-F7840D8B537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8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Network Management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248520"/>
            <a:ext cx="1447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7B7-52F9-471E-897F-1DE09ACA0F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1 Administrative Concep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057400"/>
          <a:ext cx="615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15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EF5-821B-4876-A290-6CA8203A54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3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 defines a security capability to be used in conjunction with SNMPv1 or v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2666880"/>
          <a:ext cx="6096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096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FA2-7EF0-4844-BC99-73FA02F894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3 Flo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295280"/>
          <a:ext cx="7848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848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B7A-F946-40D8-B39E-4C1202499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ditional SNMP Manag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0" y="1295280"/>
          <a:ext cx="4776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95280"/>
                    <a:ext cx="4776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85D-3128-4AA3-A202-BFBD27EF16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ditional SNMP Agen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71880" y="1447920"/>
          <a:ext cx="47224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447920"/>
                    <a:ext cx="4722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CC4-73BE-49DE-9E5C-4DB49943C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3 Message Format with U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1905120"/>
          <a:ext cx="4800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4800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044-0891-437E-B02A-EB24CAB10B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User Security Model (USM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signed to secure again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odification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essage stream mod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ot intended to secure again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nial of Service (DoS att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35E-8478-4353-A783-BE0F763DF1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Localization Proces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752480"/>
          <a:ext cx="751356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13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7D6-3F72-4702-BD94-9EC2885442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View-Based Access Control Model (VACM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VACM has two characteristic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termines wheter access to a managed object should be allow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ke use of an MIB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fines the access control policy for this ag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kes it possible for remote configuration to be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84E-BEB4-4D2D-8AD5-EF4DAC3C4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ccess control decis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14400" y="1143000"/>
          <a:ext cx="7086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086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09B-C6CC-4270-BA6A-FA52730606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Basic Concepts of SNM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1 Community Fac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075-2488-4F1C-8510-689A2582A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ubramanian, Mani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Network Management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2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alling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SNMP, SNMPv1, SNMPv3 and RMON 1 and 2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199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ETF SNMPv3 working group (Web si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E65-2904-4B94-AE34-E434FCE9A2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Basic Concepts of SN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n integrated collection of tools for network monitoring and contr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Single operato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inimal amount of separate equipment. Software and network communications capability built into the existing equi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NMP key el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ement 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ament ag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ement information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Network Management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Get, Set and Noti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EA2-CDB6-4DF5-AA06-665704F741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otocol context of SN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1600" y="1981080"/>
          <a:ext cx="6545160" cy="45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54516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144-DEB8-40EC-BD27-89FE1A476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oxy Configur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981080"/>
          <a:ext cx="861048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61048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A6C-C9DE-4226-BCB8-E4E4823DF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152280"/>
          <a:ext cx="86108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610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1C7-18B2-4970-AC34-2CFD01A0B0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 v1 and v2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rap – an unsolicited message (reporting an alarm condi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1 is ”connectionless” since it utilizes UDP (rather than TCP) as the transport layer protoco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2 allows the use of TCP for ”reliable, connection-oriented” serv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D73-FA21-4AC5-AF41-725C4C8A33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Comic Sans MS"/>
              </a:rPr>
              <a:t>Comparison of SNMPv1 and SNMPv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89000"/>
          <a:ext cx="8763120" cy="571824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1 P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2 P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nex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--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Bulk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multiple valu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--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mana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mit unsolicited inform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nt to manager or Manage  to manager(SNMPv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d to manager 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2-Tr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nt to mana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mit unsolicited inform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62520" y="6324480"/>
            <a:ext cx="121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005-F871-455E-A4BE-4788B7A63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1 Community Fac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 Community – Relationship between an SNMP agent and SNMP manag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ree aspect of agent contro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ccess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oxy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047-CD89-4115-AF04-3505A45673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4:34:11Z</dcterms:created>
  <dc:creator>Henric Johnson</dc:creator>
  <dc:description/>
  <dc:language>en-US</dc:language>
  <cp:lastModifiedBy>Henric Johnson</cp:lastModifiedBy>
  <dcterms:modified xsi:type="dcterms:W3CDTF">2001-08-23T09:51:22Z</dcterms:modified>
  <cp:revision>12</cp:revision>
  <dc:subject/>
  <dc:title>Chapter 8</dc:title>
</cp:coreProperties>
</file>