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140-8FB4-4C50-BEF7-DAAA1FC2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0BD-7F74-42CE-9436-3451BF1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915-9F08-49B4-8146-8AC9FCA3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E48-6D69-41A0-B9C2-ACDE3EF2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82A-979E-47BB-9402-B00AE2A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7E5-69F9-4DB3-A742-4479C5AA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A97-0CE1-4EF7-9C2F-834C286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1B1-6D75-46E1-9669-049D44D0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7DC-8FE8-4637-A4D7-8022144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A3B-AF50-4117-B6D7-6E23059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950-6AA4-42EA-AB17-72C75CA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55D-FB43-4DA6-BA02-D3747D6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D4FD-C1FC-42B0-8E6D-F26533D8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740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4876920"/>
            <a:ext cx="7543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+46-708-2503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6BB-F08A-4F51-B204-AD8E0B590D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types of Firew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-filtering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it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tion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82F-E242-498F-99F1-3A05EF018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2666880"/>
          <a:ext cx="644040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440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074-8AE6-4356-899D-221B5CFA8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es a set of rules to each incoming IP packet and then forwards or discards th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 packets going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 filter is typically set up as a list of rules based on matches to fields in the IP or TC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efault policies (discard or for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8BF-069A-4DDC-B1D4-5C6301598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arency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y of setting up packet filt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405-B374-4B77-857B-60EED707E0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attacks and appropriate counter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 address 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rout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ny fragment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DDB-486C-48DF-B38F-BC94B63CEB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2743200"/>
          <a:ext cx="62769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276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C1A-031B-4CCF-9964-E4433AEBE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 called prox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s as a relay of application-level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ACA-6B4E-4F2C-8048-5FC28081C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security than packet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need to scrutinize a few allowabl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y to log and audit all incoming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cessing overhead on each connection (gateway as splice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D0D-9D2F-4E10-B5CC-781D74EAB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2666880"/>
          <a:ext cx="63356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335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7E2-F1CD-48BC-8357-9B49A8063A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-alone system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ized function performed by an Application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s up two TCP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ateway typically relays TCP segments from one connection to the other without examining the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347-2C16-4914-9D3F-D4DC0C976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ewall Design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oncept of Trust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F64-CCA4-4A4F-BFCC-DB534F007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curity function consists of determining which connections will b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use is a situation in which the system administrator trusts the internal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ample is the SOCKS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E92-06BC-4504-9012-66E3C29BFE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tion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dentified by the firewall administrator as a critical strong point in the network´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stion host serves as a platform for an application-level or circuit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BCC-B6ED-417B-A724-1A50CEA090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 to the use of simple configuration of a single system (single packet filtering router or single gateway), more complex configurations a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74C-5FEB-4023-ABDF-9D1E7E6EBD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single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276720"/>
          <a:ext cx="70894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76720"/>
                    <a:ext cx="7089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236-7B2C-4D95-ACD5-8BCFC135A5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single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wall consists of two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et-filtering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DBD-0178-4BAA-8172-E766F778B4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guration for the packet-filtering rou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packets from and to the bastion host are allowed to pass through the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tion host performs authentication and prox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E94-7BC8-40C9-9CCE-8081AE58B2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er security than single configurations because of two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configuration implements both packet-level and application-level filtering (allowing for flexibility in defining security pol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ruder must generally penetrate two separat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56A-AF95-461F-84A9-2E619C7D9F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configuration also affords flexibility in providing direct Internet access (public information server, e.g. Web ser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E40-469F-4479-8AC6-00BF8B43FC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dual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3276720"/>
          <a:ext cx="6789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6720"/>
                    <a:ext cx="6789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FC2-72A1-4F4E-8BDD-69A3D1A54E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dual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-filtering router is not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ffic between the Internet and other hosts on the private network has to flow through the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0CC-2A82-425B-BD63-8AE2E57F2C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ive means of protection a local system or network of systems from network-based security threats while affording access to the outside world via WAN`s o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C85-FE16-44F8-A8DB-E6F138D62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-subnet firewal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819520"/>
          <a:ext cx="696744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96744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1AE-31D6-40BE-ADA9-C869CB0DC3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subnet firewal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ecure configuration of the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acket-filtering router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on of an isolated sub-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5B2-1DDB-449A-9654-9734A1B2B4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levels of defense to thwart intru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utside router advertises only the existence of the screened subnet to the Internet (internal network is invisible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E02-6C55-4790-8CFD-EFD101DE21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ide router advertises only the existence of the screened subnet to the internal network (the systems on the inside network cannot construct direct routes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032-4D4B-4177-98DC-F0AED56DEE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way to enhance the ability of a system to defend against intruders and malicious programs is to implement trusted system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241-A717-4FD3-8542-D295AB15C9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the user access control procedure (log on), a user can be identified 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ciated with each user, there can be a profile that specifies permissible operations and file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 system can enforce rules based on the user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D23-6E8C-473B-BADD-7AEB5603FB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models of access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494-FC56-4ECD-9448-4DFF32E3B4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743200"/>
          <a:ext cx="637056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63705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010-1125-4884-8E55-A9C33C99AE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: Basic elements of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: An entity capable of accessing objects, the concept of subject equates with that of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: Anything to which access is controlled (e.g. files,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right: The way in which an object is accessed by a subject (e.g. read, write, exec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9F6-5445-468B-B4FC-FC073FB34E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: Decomposition of the matrix by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276720"/>
          <a:ext cx="41148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76720"/>
                    <a:ext cx="4114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80A-E1AB-4A6A-B1F7-5D4FB18FFE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systems undergo a steady evolution (from small LAN`s to Internet conne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security features for all workstations and servers not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F83-F289-4447-B92D-EC8BBE814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ccess control list lists users and their permitted access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st may contain a default or public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EA3-BEB8-47A8-B670-663513BE68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: Decomposition of the matrix by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429000"/>
          <a:ext cx="380988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8098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B98-FA92-469E-92DE-1F965D8113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apability ticket specifies authorized objects and operations for a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user have a number of ti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1D7-4E8B-4222-9830-F6CEE0D50F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on of data and resources on the basis of levels of security (e.g. milit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can be granted clearances to access certain categori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6BC-FA4D-4857-B14D-14286656677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level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ion of multiple categories or level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level secure system must enfor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ad up: A subject can only read an object of less or equal security level (Simple Security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write down: A subject can only write into an object of greater or equal security level (*-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91B-1830-4280-8577-49DB7A0753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 Concept: Multilevel security for a data 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971800" y="3581280"/>
          <a:ext cx="313704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81280"/>
                    <a:ext cx="313704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A4C-6480-4376-992F-F2D8E74F31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523880" y="1447920"/>
          <a:ext cx="609624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609624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E84-42AD-4624-81E9-03F458AB6F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ling element in the hardware and operating system of a computer that regulates the access of subjects to objects on basis of securit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has access to a file (security kernel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enforces the security rules (no read up, no write d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FFE-55A9-49D5-8BD9-2FCB9D1102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the 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te mediation: Security rules are enforced on every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lation: The reference monitor and database are protected from unauthorized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iability: The reference monitor’s correctness must be provable (mathemat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784-05A8-469C-81C3-A290248B31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ystem that can provide such verifications (properties) is referred to as a trus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D7B-DFE4-48E3-9494-93D2F68B4A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ewall is inserted between the premises network and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a controlle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 the premises network from Internet-based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a single chok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FB7-7239-4B97-AE28-96B9F9D42F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trusted operating systems are one way to secure against Trojan Hors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B4F-7A94-41E5-BB55-3C2AF47D94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057400"/>
          <a:ext cx="425772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425772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343400" y="1996920"/>
          <a:ext cx="428616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996920"/>
                    <a:ext cx="4286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F94-3575-448D-BA64-985AC068F3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60560"/>
          <a:ext cx="44956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0560"/>
                    <a:ext cx="4495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905120"/>
          <a:ext cx="454356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435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ACF-DD75-4DAC-943A-7B39B1089B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apman, D., and Zwicky, E. Building Internet Firewalls. O’Reilly,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eswick, W., and Bellovin, S. Firewalls and Internet Security: Repelling the Wily Hacker. Addison-Wesley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sser, M. Building a Secure Computer System. Reinhold, 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fleeger, C. Security in Computing. Prentice Hall,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CF0-3A7E-4A40-852A-0E1B7F56BB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raffic from inside to outside must pass through the firewall (physically blocking all access to the local network except via the firew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authorized traffic (defined by the local security police) will be allowed to 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AB9-1B69-4A2B-8EA3-A79FC988D3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ewall itself is immune to penetration (use of trusted system with a secure operating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445-B0EF-4B97-8AFC-063E078F8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 gen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types of Internet services that can be accessed, inbound or out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direction in which particular service requests are allowed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0B5-D3A3-4104-B081-EE8C1737A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access to a service according to which user is attempting to acces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how particular services are used (e.g. filter e-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900-0C5A-4611-B611-716C5EA6C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olger Brachmann</dc:creator>
  <dc:description/>
  <dc:language>en-US</dc:language>
  <cp:lastModifiedBy>Henric Johnson</cp:lastModifiedBy>
  <dcterms:modified xsi:type="dcterms:W3CDTF">2001-08-23T09:53:02Z</dcterms:modified>
  <cp:revision>44</cp:revision>
  <dc:subject/>
  <dc:title>Chapter 2</dc:title>
</cp:coreProperties>
</file>