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3F7-64DC-4B22-AEE4-9FD770D6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746-2601-4E05-8AF9-E124D56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B10-A1B6-43F7-8641-8B0E501B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173-BC43-4E0F-BEDF-88EF92B7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4CA-C88D-418D-A47F-1CD9368B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597-B25E-4C95-88D2-62828DB7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D11-C243-4786-8581-F1F5A6D1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D07-E6EA-4FEF-828C-6322F5FA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E79-CD5E-4EB1-A0EB-B52031C8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8D9-527B-4FD7-90F3-BEC53ABF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7B8-57B8-4F84-8B6E-0B4F9210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E4D-2147-4E51-B58E-6AF719B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507B-9E3C-49C9-93BB-7145478E893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7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omic Sans MS"/>
              </a:rPr>
              <a:t>WEB Securit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724280"/>
            <a:ext cx="85345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62485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003-C9D5-4C53-8013-2FF14C5554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andshake Protocol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most complex part of SS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llows the server and client to authenticate each 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egotiate encryption, MAC algorithm and cryptographic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Used before any application data are transmitt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10E-B3CF-45E7-B1B4-741A0CF578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andshake Protocol Ac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743200" y="1143000"/>
          <a:ext cx="44244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143000"/>
                    <a:ext cx="442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A32-5967-414D-B8F0-56B922AB7F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nsport Layer Secur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e same record format as the SSL record form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fined in RFC 224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Similar to SSLv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ifferences in th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version num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message authentication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pseudorandom fun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alert c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ipher suit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lient certificate typ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ertificate_verify and finished mess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ryptographic comput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767-5535-4FA5-97DB-33FF366FD6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e Electronic Transa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n open encryption and security specifi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rotect credit card transaction on the </a:t>
            </a:r>
            <a:r>
              <a:rPr b="0" sz="2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mpanies involv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sterCard, Visa, IBM, Microsoft, Netscape, RSA, Terisa and Verisig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Not a payment sys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t of security protocols and forma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AFF-8166-4ED9-8DD6-AC8B99E5C2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T Servic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ovides a secure communication channel in a transa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ovides tust by the use of X.509v3 digital certificat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nsures privac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6CD-826E-4B0B-BA4F-D5BF2C0034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T Overview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Key Features of SE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fidentiality of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ntegrity of 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rdholder account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Merchant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8A2-E211-4560-AE73-9DEA2B1672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T Participan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600200"/>
          <a:ext cx="73911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2F5-57DB-4FC7-8B03-FFAFEEF9D5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quence of events for transa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ustomer opens an accou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ustomer receives a certific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erchants have their own certificat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ustomer places an ord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is verifi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order and payment are s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request payment author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confirm the ord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provides the goods or servi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requests pay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4FF-CBA8-462F-BD0E-681B374FCF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ual Signa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38472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87" name=""/>
          <p:cNvGraphicFramePr/>
          <p:nvPr/>
        </p:nvGraphicFramePr>
        <p:xfrm>
          <a:off x="1219320" y="2438280"/>
          <a:ext cx="6858000" cy="38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438280"/>
                    <a:ext cx="6858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237-1B84-4E44-AE2A-0F7FE42D91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ayment process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rdholder sends Purchase Requ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1371600"/>
          <a:ext cx="57009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57009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713-4BE0-4532-A33D-5FF4B574F9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Web Security Consid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ure Socket Layer (SSL) and Transport Layer Security (TL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ure Electronic Transaction (SE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686-F7D2-4665-ABEA-C0FF3C5362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ayment process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62320" y="1219320"/>
          <a:ext cx="473220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19320"/>
                    <a:ext cx="47322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143000" y="57913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erchant Verifies Customer Purchas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80C-44BF-4E5B-86F6-A6340869F8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ayment process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ayment Authoriz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uthorization Requ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uthorization Respo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ayment Captur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pture Requ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pture Respo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B7F-0B48-4AAE-86E3-F267C06F37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rew, G.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Using SET for Secure Electronic Commerce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. Prentice Hall, 19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Garfinkel, S., and Spafford, G. Web Security &amp; Commerce. O’Reilly and Associates, 199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sterCard SET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Visa Electronic Commerc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TCo (documents and glossary of term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4B6-49C3-45AF-B4B4-E65CBA02B5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Web Security Consider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WEB is very visi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mplex software hide many security flaw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Web servers are easy to configure and man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Users are not aware of the ris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0D0-C434-4F5C-8C2B-5FD2D6E8F3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ity facilities in the TCP/IP protocol stack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666880"/>
          <a:ext cx="883908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883908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106-F6D1-4404-A35E-B762B8203D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and TL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SL was originated by Netsca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LS working group was formed within IET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First version of TLS can be viewed as an SSLv3.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82B-601A-4EEF-9DB0-D116BA3821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Architec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828800"/>
          <a:ext cx="608832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883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ECE-102C-44B5-91AF-D74A23C0E4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Record Protocol Oper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14400" y="1752480"/>
          <a:ext cx="739152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39152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FB1-B6FC-4B59-AFDA-5552BB54FB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Record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1752480"/>
          <a:ext cx="525456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25456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2FD-9BEA-42A1-B1F9-938581301E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Record Protocol Payloa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2209680"/>
          <a:ext cx="82296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2296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974-AF0A-4FF9-AA53-F69B864A3C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5:17:12Z</dcterms:created>
  <dc:creator>Henric Johnson</dc:creator>
  <dc:description/>
  <dc:language>en-US</dc:language>
  <cp:lastModifiedBy>Henric Johnson</cp:lastModifiedBy>
  <dcterms:modified xsi:type="dcterms:W3CDTF">2001-08-23T09:51:04Z</dcterms:modified>
  <cp:revision>14</cp:revision>
  <dc:subject/>
  <dc:title>Chapter 7</dc:title>
</cp:coreProperties>
</file>