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BA8-112D-4012-BC9E-CD699624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2D5-5922-471D-B540-130FABD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D15-3F34-4F6E-A365-B9B1D5A1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46C-C0D5-47CF-855F-63AF729A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882-6ECB-46E4-8130-3EA25FFC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5D7-5513-4BB9-B157-5FF0378C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F3F-C694-4E03-BBFD-36C0B88A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427-C49E-4842-8A75-BEE94555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917-9608-4428-8E2A-71BD00EB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596-B166-40A7-B5D2-53A90338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1ED-1E92-428E-AF3D-1DDF404D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CD8-C364-4393-9797-3C58C2F8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9D90-65A9-44B9-9507-2A6E656D2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etwork Securi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ww.its.bth.se/staff/hjo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46 708 250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0254382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115416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bth" descr=""/>
          <p:cNvPicPr/>
          <p:nvPr/>
        </p:nvPicPr>
        <p:blipFill>
          <a:blip r:embed="rId2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6248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A15-A7ED-493C-BCAE-BCF0D7011A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1600" y="1346040"/>
            <a:ext cx="8739360" cy="416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814-FB62-43BB-BADC-2DEA4BB908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ethods of Def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Controls (access limitations in a data base, in operating system protect each user from other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ware Controls (smartc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icies (frequent changes of passwo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ysical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6E9-7164-4AE4-8C04-20B66F158F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net standards and RF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ternet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Architecture Board (I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Engineering Task Force (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Engineering Steering Group (IES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3BE-ADFA-4FEB-9AA3-92FA3EB579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net RFC Public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4052880" cy="41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CA6-CBAA-4470-8438-9C7F19ED52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fleeger, C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Security in Computing.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Prentice Hall,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Mel, H.X. Baker, D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Cryptography Decrypted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 Wesley,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78D-45CC-4606-998F-60BF25B1C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tacks, services and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s of Def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odel for Internetwork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et standards and RF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A3D-85C6-4E3F-906F-AD9A1E9FA4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tacks, Services and Mechanis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urity Attack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action that compromises the security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urity Mechanis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echanism that is designed to detect, prevent, or recover from a security at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urity Servi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vice that enhances the security of data processing systems and information transfers.  A security service makes use of one or more security mech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B7D-8E8F-470B-8A4A-E5345EA2D4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477120" cy="48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202-15EF-478B-889E-8F3E2807CC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rup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cep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dfi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integt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bri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authen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120-0100-462E-93EA-6ABF258FC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1905120"/>
            <a:ext cx="3276360" cy="2971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276720"/>
            <a:ext cx="3276720" cy="2971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352680"/>
            <a:ext cx="3276360" cy="29718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5909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a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049-DFB0-48B8-86E1-D6C221E75B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40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75E-BC63-46E9-8847-EFFDD650A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dentiality (priv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 (who created or sent the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ity (has not been alt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repudiation (the order is f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control (prevent misuse of resour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ility (permanence, non-era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ial of Service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us that deletes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EBD-C693-43AF-BF76-D6B8D33608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8080" y="341280"/>
            <a:ext cx="8726400" cy="61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2B5-C5BB-4374-8152-8967FA2E03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0:52:39Z</dcterms:created>
  <dc:creator>Vicky</dc:creator>
  <dc:description/>
  <dc:language>en-US</dc:language>
  <cp:lastModifiedBy>Henric Johnson</cp:lastModifiedBy>
  <dcterms:modified xsi:type="dcterms:W3CDTF">2001-08-23T09:46:37Z</dcterms:modified>
  <cp:revision>11</cp:revision>
  <dc:subject/>
  <dc:title>Network Security</dc:title>
</cp:coreProperties>
</file>