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FE7-7A57-41FA-A623-97F262A5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F9F-4519-470A-9238-04AEBDB1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CC5-0BA0-489E-AFC3-8F8EAEF6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58E-65AE-48C2-846B-2BE7FAAC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09C-412E-4327-8A49-483E9961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EB9-38D0-45D5-B670-9581C1C1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E05-941A-4854-89D8-1703513D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D68-17EA-4CF3-9014-B913D5AB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A41-52F0-46D0-A924-473FA548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E50-6582-4805-8F6C-232FA1C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A1A-9076-46F0-8E7E-DBCD2191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7C5-9B6E-4843-9B80-7C99F33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CFD-4D9E-4CB1-94FA-31CE6468E6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hapter3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ublic-Key Cryptography and Message Authentica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248520"/>
            <a:ext cx="1524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66B-73C1-4A4B-9631-8E31A8F203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Message Digest Generation Using SHA-1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7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622-D6DA-48D8-A826-BD2FF5EA1C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HA-1 Processing of single 512-Bit Block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456-98A3-41F0-B544-1FC12725E5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ecure HASH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143000"/>
          <a:ext cx="8610480" cy="5662440"/>
        </p:xfrm>
        <a:graphic>
          <a:graphicData uri="http://schemas.openxmlformats.org/drawingml/2006/table">
            <a:tbl>
              <a:tblPr/>
              <a:tblGrid>
                <a:gridCol w="2590920"/>
                <a:gridCol w="2184120"/>
                <a:gridCol w="177804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D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PEMD-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gest 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sic unit of proces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ber of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 (4 rounds of 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 (4 rounds of 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(5 paired rounds of 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imum message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 rot="10800000">
                <a:off x="5257800" y="594360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 rot="10800000">
                <a:off x="7086600" y="594360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962520" y="6324480"/>
            <a:ext cx="1218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867-8524-41C1-AE1A-1C6A902642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MAC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Use a MAC derived from a cryptographic hash code, such as SHA-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Motiv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ryptographic hash functions executes faster in software than encryptoin algorithms such as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Library code for cryptographic hash functions is widely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No export restrictions from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13A-B119-43E8-B938-53B40AEA94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MAC Stru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6E6-C6DD-454B-AFE8-A28ED162F6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ryptography Principl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use of 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 keys has consequences in: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y distribution, confidentiality and authenticatio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scheme has six ingredients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(see Figure 3.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lain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ipher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28C-68E9-4A68-8FF4-FB0AF9647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ryption using Public-Key syste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343720" cy="474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CC4-5E1F-4D04-B1CE-9FC9A2C3BA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uthentication using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Public-Key Syste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73920" cy="451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61E-D59D-4CF4-B2BA-80A005ED0F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pplications for Public-Key Cryptosyste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ree 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Encryption/decryption: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sender encrypts a message with the recipient’s public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Digital signature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he sender ”signs” a message with its private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Key echange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wo sides cooperate two exhange a session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74C-301F-426C-A896-EE78992366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quirements for Public-Key Cryptograp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utationally easy for a party B to generate a pair (public key K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private key KR</a:t>
            </a:r>
            <a:r>
              <a:rPr b="0" lang="sv-SE" sz="32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asy for sender to generate ciphertex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asy for the receiver to decrypt ciphertect using private ke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81280" y="4114800"/>
                <a:ext cx="2133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71600" y="5715000"/>
                <a:ext cx="502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7EB-15E4-488B-881A-60A0C3BA89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roaches to Message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cure Hash Functions and HM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blic-Key Cryptography Princi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blic-Key Cryptography Algorith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gital Sign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080-8161-4231-8D77-85227D1411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quirements for Public-Key Cryptograp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utationally infeasible to determin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ivate key (K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knowing public key (K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utationally infeasible to recover message M, knowing K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ciphertext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ither of the two keys can be used for encryption, with the other used for decryp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71600" y="5334120"/>
                <a:ext cx="6248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3DC-8B25-4254-A1CB-B888851A0B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ryptographic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SA and Diffie-Hellm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RSA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- Ron Rives, Adi Shamir and Len Adleman at MIT, in 1977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RSA is a block cip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most widely impleme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Diffie-Hellma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Echange a secret key secur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ompute discrete loga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014-D253-417C-AB82-F83CF77F2E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–    Key Genera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81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p,q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both pr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lect integer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ublic Key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U = {e,n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ivate key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R = {d,n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048120"/>
                <a:ext cx="2990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648320" y="3505320"/>
                <a:ext cx="4292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lt;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48320" y="3962520"/>
                <a:ext cx="2749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499-64CF-4528-9209-79BB751331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xample of RSA Algorith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D2E-433F-4A5B-9843-7A8ADFEA29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- Encryp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in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&lt;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ipher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 =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mod 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905-9DAD-47D1-AFE1-BB45956FD5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- Decryp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ipher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in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 = 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mod 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30A-91E9-4722-AD12-367F549794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iffie-Hellman Key Echang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717-4AD3-48C5-80A1-137F252E72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Public-Key Cryptographic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igital Signature Standard (DS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kes use of the SHA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Not for encryption or key e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liptic-Curve Cryptography (EC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ood for smaller bit si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Low confidence level, compared with 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Very compl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266-9E20-4BC8-8D1C-EC8DFF6C59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ertificate Us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294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33F-7D2B-499C-BEBA-752D527854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quirements - must be able to verify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Message came from apparent source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author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Contents have not been altere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Sometimes, it was sent at a certain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me or sequ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ction against active attack (falsification of data and transact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D74-470C-4782-8466-21C448EA4F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roaches to Message Authentica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thentication Using Conventional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ly the sender and receiver should share a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ssage Authentication without Message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n authentication tag is generated and appended to each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ssage Authentication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lculate the MAC as a function of the message and the key. MAC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F(K, 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0A6-CEEF-4548-9B39-2B9123B596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93680"/>
            <a:ext cx="8534160" cy="66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60F-CB59-45F2-AE8E-AF7ECBC665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304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ne-way HASH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826-16E0-42F8-9C4A-0FE95DE13A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ne-way HASH func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ret value is added before the hash and removed before transmis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5341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E14-F99A-4F14-B841-5919C6BA5B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e HASH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rpose of the HASH function is to produce a ”fingerpr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erties of a HASH function H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 can be applied to a block of data at any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 produces a fixed length out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(x) is easy to compute for any given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any given block x, it is computationally infeasible to find x such that H(x) = 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any given block x, it is computationally infeasible to find           with H(y) = H(x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computationally infeasible to find any pair (x, y) such that H(x) = H(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267080" y="533412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BB8-5601-40CB-B620-C2B7509D41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imple Hash Func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5105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One-bit circular shift on the hash value after each block is processed would im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629400" cy="36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06D-2A0E-4DF0-8065-22D68AF0F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20:46:40Z</dcterms:created>
  <dc:creator>Vicky</dc:creator>
  <dc:description/>
  <dc:language>en-US</dc:language>
  <cp:lastModifiedBy>Henric Johnson</cp:lastModifiedBy>
  <dcterms:modified xsi:type="dcterms:W3CDTF">2001-08-23T09:47:53Z</dcterms:modified>
  <cp:revision>20</cp:revision>
  <dc:subject/>
  <dc:title>Ingen bildrubrik</dc:title>
</cp:coreProperties>
</file>