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1B0-DD7F-48C9-9C89-AF27CBF6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B27-1667-4669-B068-D3357965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C18A-B5EC-4B7A-AF3B-51F90A6F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51A-0AE8-46B4-8B33-ABA49409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423E-D62A-4CBA-BABF-27C82597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C9A5-D36E-4DE5-8E05-7724C9E7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6DAE-7BD4-47F2-AE9B-5717AFBD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C1E-1B30-418C-8760-D4638F5A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7B44-1A72-40E1-B492-EA5A5851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D2F0-AE02-4D91-9640-061F8B31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928-DF4B-4012-BDEA-EBC8CFDE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2FD9-C566-49A5-882C-FC007B9F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94EB-EEFB-45AD-8AA4-BE66F07C8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Comic Sans MS"/>
              </a:rPr>
              <a:t>Chapter 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800" spc="-1" strike="noStrike">
                <a:solidFill>
                  <a:srgbClr val="000000"/>
                </a:solidFill>
                <a:latin typeface="Comic Sans MS"/>
              </a:rPr>
              <a:t>Conventional Encryption Message Confidentia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029200"/>
            <a:ext cx="9144000" cy="15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33920" y="6324480"/>
            <a:ext cx="1600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79F4-9028-4050-9A82-4F6F13B6FE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nventional Encryptio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ata Encryption Standard (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most widely used encryp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algorithm is reffered to the Data Encryption Algorithm (D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DES is a block cip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plaintext is processed in 64-bi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key is 56-bits in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ED53-98B8-48C9-AEEF-2C11C0F003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28760" y="181080"/>
          <a:ext cx="4686480" cy="649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8760" y="181080"/>
                    <a:ext cx="4686480" cy="64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4191-AF21-45B4-AFAA-4B52DB83CF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BED7-8469-42DE-9464-A09C95DAAA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omic Sans MS"/>
              </a:rPr>
              <a:t>The overall processing at each ite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= L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-1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    F(R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-1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, K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omic Sans MS"/>
              </a:rPr>
              <a:t>Concerns abou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he algorithm and the key length (56-b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971800" y="3657600"/>
                <a:ext cx="4366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79A-7AC7-4A98-80C9-A0891995E7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ime to break a code (10</a:t>
            </a:r>
            <a:r>
              <a:rPr b="1" lang="sv-SE" sz="4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 decryptions/µ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105160" cy="506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09E9-FE1A-43FF-94AA-6712DD2937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iple 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three keys and three executions of the DES algorithm (encrypt-decrypt-encry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C = cipher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P = Plai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EK[X] = encryption of X using key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DK[Y] = decryption of Y using key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ffective key length of 168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3962520"/>
            <a:ext cx="297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3581280"/>
            <a:ext cx="3657600" cy="52056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 = E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K3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[D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K2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[E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K1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[P]]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CEB-0902-4C2F-92F2-983D2069ED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iple 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9000" y="1038240"/>
          <a:ext cx="40860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9000" y="1038240"/>
                    <a:ext cx="40860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C23A-2626-472B-ACC2-AD72D2F15B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ther Symmetric Block Cip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omic Sans MS"/>
              </a:rPr>
              <a:t>International Data Encryption Algorithm (IDE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128-bit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Used in PG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omic Sans MS"/>
              </a:rPr>
              <a:t>Blowf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asy to imp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High execution spe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Run in less than 5K of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4CF-6C76-4911-ADD7-4CF1A0F51A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ther Symmetric Block Cip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RC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uitable for hardware and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ast, si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aptable to processors of different word length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ariable number of rou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ariable-length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ow memory requi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igh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ata-dependent ro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ast-12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ey size from 40 to 128 b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round function differs from round to r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96D6-659D-45B1-9778-3B11B8A8F9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ipher Block Modes of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pher Block Chaining Mode (CB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put to the encryption algorithm is the XOR of the current plaintext block and the preceding ciphertext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eating pattern of 64-bits are not ex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600200" y="4191120"/>
            <a:ext cx="4905360" cy="231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C3C9-0284-4F3A-9FAE-7F25B52B49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nventional Encryp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nventional Encryp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pher Block Modes of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cation of Encryption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y D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33DF-3DBC-4E40-AF54-4FB8B2786A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FE49-04E9-4696-B2A7-195D6E5E41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Location of Encryption De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Link encryp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A lot of encryption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High level of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Decrypt each packet at every swi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End-to-end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The source encrypt and the receiver decry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Payload encry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Header in the 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High Security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Both link and end-to-end encryption are needed (see Figure 2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F3AA-6A9E-4D47-A520-ABD8985500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640" y="163440"/>
            <a:ext cx="9107280" cy="652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D69D-8192-46BF-AD2B-079DD71326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y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key could be selected by A and physically delivered to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hird party could select the key and physically deliver it to A and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 and B have previously used a key, one party could transmit the new key to the other, encrypted using the old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 and B each have an encrypted connection to a third party C, C could deliver a key on the encrypted links to A and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5EE-CD90-44E1-B04A-10C7D80868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y Distribution (See Figure 2.10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ssion ke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a encrypted with a one-time session key.At the conclusion of the session the key is destro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manent ke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d between entities for the purpose of distributing sessio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8E8-3D49-4E7E-B334-C1CB02C215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18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C06-29AD-4358-8C1A-052C244441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commended 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tallings, W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Cryptography and Network Security: Principles and Practice, 2</a:t>
            </a:r>
            <a:r>
              <a:rPr b="0" i="1" lang="sv-SE" sz="32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 edition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 Prentice Hall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cneier, B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Applied Cryptography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, New York: Wiley, 19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Mel, H.X. Baker, D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Cryptography Decrypted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 Addison Wesley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487-CC31-4569-83A1-51C67AEE37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nventional Encryption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encryption scheme has five ingredi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i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ryption 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pher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ity depends on the secrecy of the key, not the secrecy of the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1AD-8250-4C9D-A3F2-4684B38097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nventional Encryption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6480" y="1981080"/>
            <a:ext cx="73310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232-D4C2-45C8-9066-6224E51FB4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rypt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ed along three independent dimens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ype of operations used for transforming plaintext to cipher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umber of key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mmetric (single k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ymmetric (two-keys, or public-key encryp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ay in which the plaintext is proc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A56E-5D9D-41C4-B147-DDFC9D407F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verage time required for exhaustive</a:t>
            </a: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 key sear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2209680"/>
          <a:ext cx="8305920" cy="3799080"/>
        </p:xfrm>
        <a:graphic>
          <a:graphicData uri="http://schemas.openxmlformats.org/drawingml/2006/table">
            <a:tbl>
              <a:tblPr/>
              <a:tblGrid>
                <a:gridCol w="1752480"/>
                <a:gridCol w="3124440"/>
                <a:gridCol w="342900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y Size (bit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mber of Alternative Ke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 required at 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Decryption/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µ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4.3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5 milliseco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7.2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8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3.4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4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r>
                        <a:rPr b="0" lang="sv-SE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8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3.7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9 </a:t>
                      </a: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sv-SE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8F9-22FB-4F75-9B93-A6CBDFA90A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eistel Cipher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rtually all conventional block encryption algorithms, including DES have a structure first described by Horst Feistel of IBM in 197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alisation of a Fesitel Network depends on the choice of the following parameters and des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g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eatures (see next slide)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8DF2-B48C-4FAC-A3A3-C28E657E19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eistel Cipher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ock siz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arger block sizes mean greater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ey Siz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arger key size means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greater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Number of rounds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 multiple rounds offer increas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Subkey generation algorithm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greater complexity will lead to greater difficulty of crypt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Fast software encryption/decryption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the speed of execution of the algorithm becomes a con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A182-E2A8-4C83-9D30-3FEFA47D34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740560" cy="63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39D-5CB2-44B3-ABC7-E0D347EE59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2:49:13Z</dcterms:created>
  <dc:creator>Henric Johnson</dc:creator>
  <dc:description/>
  <dc:language>en-US</dc:language>
  <cp:lastModifiedBy>Henric Johnson</cp:lastModifiedBy>
  <dcterms:modified xsi:type="dcterms:W3CDTF">2001-08-23T09:47:13Z</dcterms:modified>
  <cp:revision>23</cp:revision>
  <dc:subject/>
  <dc:title>Chapter 2</dc:title>
</cp:coreProperties>
</file>