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9A4-64BC-4B01-A2C5-89334FDE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FBA-5D53-4702-85F7-5498857D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2A5-994D-45D4-A75D-4DA67C26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358-1F72-4DAD-961C-8947C73D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043-1D15-4DCB-987B-5FB32840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2C1-4BD1-4BCB-89EE-55F3F148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172-ED02-4304-9D23-9B3A6968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88F5-19F5-4C13-802B-1E1064AD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385-4C8B-4AE2-ADEA-B88E4630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7E3-7097-42F5-8084-D340D3E9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C34-78EE-4CF7-B1AA-7D99BF50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0CA-57CC-43EF-85B6-6E5FC38A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8F05-3379-4EFD-9F67-10BDEEED7B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hapter3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Public-Key Cryptography and Message Authentica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6248520"/>
            <a:ext cx="1524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79F-D534-45EC-BBA3-5B739258A9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Message Digest Generation Using SHA-1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72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4388-909B-4116-A8BF-06AAFC80DE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HA-1 Processing of single 512-Bit Block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1148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CDB-1387-4E37-8585-FE54C6E2A0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ther Secure HASH func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143000"/>
          <a:ext cx="8610480" cy="5662440"/>
        </p:xfrm>
        <a:graphic>
          <a:graphicData uri="http://schemas.openxmlformats.org/drawingml/2006/table">
            <a:tbl>
              <a:tblPr/>
              <a:tblGrid>
                <a:gridCol w="2590920"/>
                <a:gridCol w="2184120"/>
                <a:gridCol w="177804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A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D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PEMD-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gest 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sic unit of proces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mber of ste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 (4 rounds of 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 (4 rounds of 1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 (5 paired rounds of 1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imum message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sv-SE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 rot="10800000">
                <a:off x="5257800" y="5943600"/>
                <a:ext cx="3808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 rot="10800000">
                <a:off x="7086600" y="5943600"/>
                <a:ext cx="3808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962520" y="6324480"/>
            <a:ext cx="1218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605-DCA5-4F1B-9128-728CC779E4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HMAC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Use a MAC derived from a cryptographic hash code, such as SHA-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Motiva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Cryptographic hash functions executes faster in software than encryptoin algorithms such as 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Library code for cryptographic hash functions is widely avai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No export restrictions from the 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666-6C4D-4E05-8A86-FF9EF6393C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HMAC Structur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87656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467-016F-4122-85D4-E57BDE03CB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ublic-Key Cryptography Principl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use of 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 keys has consequences in: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y distribution, confidentiality and authentication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scheme has six ingredients </a:t>
            </a: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(see Figure 3.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Plainte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Cipherte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D98-1CEC-4651-91CA-118452ED3F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ncryption using Public-Key syste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343720" cy="474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044-C4B1-40DF-9205-EE6D59D40E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uthentication using</a:t>
            </a: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Public-Key Syste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73920" cy="451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70A-600A-45E7-AFA4-D69FE1CECD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Applications for Public-Key Cryptosystem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ree categor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Encryption/decryption: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sender encrypts a message with the recipient’s public ke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Digital signature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The sender ”signs” a message with its private ke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Key echange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Two sides cooperate two exhange a session ke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904-20E7-4C3D-AFF7-C27BBF3C05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quirements for Public-Key Cryptograph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utationally easy for a party B to generate a pair (public key K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, private key KR</a:t>
            </a:r>
            <a:r>
              <a:rPr b="0" lang="sv-SE" sz="32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asy for sender to generate ciphertex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asy for the receiver to decrypt ciphertect using private ke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581280" y="4114800"/>
                <a:ext cx="2133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U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71600" y="5715000"/>
                <a:ext cx="5029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b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U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C37-6BCD-4080-9031-5FE7BE9F40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roaches to Message Authent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cure Hash Functions and HM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ublic-Key Cryptography Princi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ublic-Key Cryptography Algorith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gital Signa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ey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C746-2CD4-4AE2-AF51-0661BFFA1D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quirements for Public-Key Cryptograph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utationally infeasible to determin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ivate key (K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knowing public key (K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utationally infeasible to recover message M, knowing K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ciphertext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ither of the two keys can be used for encryption, with the other used for decryp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371600" y="5334120"/>
                <a:ext cx="6248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b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U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Ub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216-EA53-48E6-AFEC-40EB18C7A8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ublic-Key Cryptographic Algorithm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SA and Diffie-Hellma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RSA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- Ron Rives, Adi Shamir and Len Adleman at MIT, in 1977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RSA is a block cip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he most widely impleme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Diffie-Hellman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Echange a secret key secure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Compute discrete logarith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5E1-1DDD-4609-A067-6FB7E2D102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RSA Algorithm –    Key Generation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810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p,q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both pr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alculate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alcula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lect integer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alculate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Public Key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KU = {e,n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Private key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KR = {d,n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14600" y="3048120"/>
                <a:ext cx="29908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648320" y="3505320"/>
                <a:ext cx="4292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lt;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648320" y="3962520"/>
                <a:ext cx="2749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A07-6C62-444E-B42A-24E532C318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xample of RSA Algorith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FAF-9ABC-4798-8714-C1D439E25C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RSA Algorithm - Encryption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intex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&lt;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iphertex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 = 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mod 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763-5766-4B03-99D1-CE88E93606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RSA Algorithm - Decryption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iphertex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intex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 = C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mod 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157-6FC5-48F2-A1C8-F8C7693BF7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iffie-Hellman Key Echang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F47-04C4-460D-A614-BBBAFF385A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ther Public-Key Cryptographic Algorithm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igital Signature Standard (DS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kes use of the SHA-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Not for encryption or key echan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lliptic-Curve Cryptography (EC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Good for smaller bit si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Low confidence level, compared with R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Very comple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7C7-AEA7-4D56-BC8E-D3834D91E6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y Management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ublic-Key Certificate Us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6294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5F7-1F06-490C-B0A8-B79D3BC391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Authentic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quirements - must be able to verify tha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 Message came from apparent source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author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Contents have not been altered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Sometimes, it was sent at a certain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me or sequ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ection against active attack (falsification of data and transaction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3F4-BDC2-4B78-B829-0EBE5F1E36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roaches to Message Authentication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uthentication Using Conventional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ly the sender and receiver should share a 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ssage Authentication without Message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An authentication tag is generated and appended to each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ssage Authentication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lculate the MAC as a function of the message and the key. MAC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F(K, 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81B-B3E8-427C-B260-222B231CF2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93680"/>
            <a:ext cx="8534160" cy="66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A7E-92A9-4AEC-A27C-2666CB70A7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562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66680" y="3049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ne-way HASH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6BE-4467-4478-B3EE-CEE419169D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ne-way HASH function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ecret value is added before the hash and removed before transmis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53416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627A-F80C-4C73-97EB-37981F8F39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cure HASH Func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urpose of the HASH function is to produce a ”fingerpr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perties of a HASH function H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 can be applied to a block of data at any 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 produces a fixed length out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(x) is easy to compute for any given 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 any given block x, it is computationally infeasible to find x such that H(x) = 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 any given block x, it is computationally infeasible to find           with H(y) = H(x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is computationally infeasible to find any pair (x, y) such that H(x) = H(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267080" y="5334120"/>
                <a:ext cx="838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BF6-8BB0-4471-8EFA-62CB8CC7FF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imple Hash Func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5105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One-bit circular shift on the hash value after each block is processed would impr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629400" cy="36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A64-8C37-4607-8878-E8B6DFB3F1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20:46:40Z</dcterms:created>
  <dc:creator>Vicky</dc:creator>
  <dc:description/>
  <dc:language>en-US</dc:language>
  <cp:lastModifiedBy>Henric Johnson</cp:lastModifiedBy>
  <dcterms:modified xsi:type="dcterms:W3CDTF">2001-08-23T09:47:53Z</dcterms:modified>
  <cp:revision>20</cp:revision>
  <dc:subject/>
  <dc:title>Ingen bildrubrik</dc:title>
</cp:coreProperties>
</file>